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3990-9088-4D0C-A227-6F6A54CF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E99-226F-4012-9860-BFE701B2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F599-974F-44D7-8167-15673668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1959-57A6-4368-A280-2E7E9FDB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BDE-5B07-4CA3-A4C4-832D7761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EAC-0B65-46D2-8C3D-A2156BEF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4AA4-D636-4D1F-968C-013F288E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608-6A24-492D-BCFB-F82A54F6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EEA-9E98-4756-B7EB-7437E9B2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9B29-986A-4D33-A8E3-FCB71D39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DC78-3703-49C3-9A82-E0ACC29C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9FD-922A-4B5F-A566-EFF6704A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E2D0-6F29-4FF1-B138-B125907D5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533520"/>
            <a:ext cx="3504960" cy="2533320"/>
          </a:xfrm>
          <a:prstGeom prst="rect">
            <a:avLst/>
          </a:prstGeom>
          <a:solidFill>
            <a:srgbClr val="ffff99">
              <a:alpha val="50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pprovato             dall’Episcopato italiano                                                       sarà obbligatorio                per la Chiesa Italiana                                       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dal 28 novembre 2004,             I domenica di Avv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5181480"/>
            <a:ext cx="7848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ito del Matrimonio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71800" y="4495680"/>
            <a:ext cx="3352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l nuovo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b100"/>
            </a:gs>
            <a:gs pos="50000">
              <a:srgbClr val="ffff00"/>
            </a:gs>
            <a:gs pos="100000">
              <a:srgbClr val="b1b1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533520"/>
            <a:ext cx="8077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novità rituali e gestuali</a:t>
            </a:r>
            <a:endParaRPr b="0" i="1" lang="en-US" sz="24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600200"/>
            <a:ext cx="3352680" cy="2943720"/>
          </a:xfrm>
          <a:prstGeom prst="rect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Eras Bold ITC"/>
              </a:rPr>
              <a:t>Liturgia della Par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Showcard Gothic"/>
              </a:rPr>
              <a:t>5  schemi propos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Showcard Gothic"/>
              </a:rPr>
              <a:t>82  pericopi                      bibliche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5715000"/>
            <a:ext cx="5410440" cy="862560"/>
          </a:xfrm>
          <a:prstGeom prst="rect">
            <a:avLst/>
          </a:prstGeom>
          <a:solidFill>
            <a:srgbClr val="3333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Eras Bold ITC"/>
              </a:rPr>
              <a:t>Terminata la proclamazione del Vang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Eras Bold ITC"/>
              </a:rPr>
              <a:t>anche gli sposi baciano l’Evangeli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bible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34340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533520"/>
            <a:ext cx="8077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novità rituali e gestuali</a:t>
            </a:r>
            <a:endParaRPr b="0" i="1" lang="en-US" sz="24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4343400" cy="2021760"/>
          </a:xfrm>
          <a:prstGeom prst="rect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Eras Bold ITC"/>
              </a:rPr>
              <a:t>Consen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Showcard Gothic"/>
              </a:rPr>
              <a:t>Gli sposi esprimono                  il loro consenso rivolgendosi l’uno  verso l’al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267080"/>
            <a:ext cx="4267080" cy="1557000"/>
          </a:xfrm>
          <a:prstGeom prst="rect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Showcard Gothic"/>
              </a:rPr>
              <a:t>Il sacerdote esprime l’accoglienza del consenso stendendo        la sua mano sulle mani unite delgi sp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sposi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3357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66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09480" y="457200"/>
            <a:ext cx="7620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00ff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e formule del consenso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50000">
                    <a:srgbClr val="00ff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3429000"/>
            <a:ext cx="6172200" cy="3020040"/>
          </a:xfrm>
          <a:prstGeom prst="rect">
            <a:avLst/>
          </a:prstGeom>
          <a:solidFill>
            <a:srgbClr val="ccccff"/>
          </a:solidFill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Berlin Sans FB Demi"/>
              </a:rPr>
              <a:t>Io </a:t>
            </a:r>
            <a:r>
              <a:rPr b="0" lang="en-US" sz="2400" spc="-1" strike="noStrike">
                <a:solidFill>
                  <a:srgbClr val="ff0000"/>
                </a:solidFill>
                <a:latin typeface="Berlin Sans FB Demi"/>
              </a:rPr>
              <a:t>N.</a:t>
            </a:r>
            <a:r>
              <a:rPr b="0" lang="en-US" sz="2400" spc="-1" strike="noStrike">
                <a:solidFill>
                  <a:srgbClr val="000099"/>
                </a:solidFill>
                <a:latin typeface="Berlin Sans FB Demi"/>
              </a:rPr>
              <a:t>, accolgo te, </a:t>
            </a:r>
            <a:r>
              <a:rPr b="0" lang="en-US" sz="2400" spc="-1" strike="noStrike">
                <a:solidFill>
                  <a:srgbClr val="ff0000"/>
                </a:solidFill>
                <a:latin typeface="Berlin Sans FB Demi"/>
              </a:rPr>
              <a:t>N.</a:t>
            </a:r>
            <a:r>
              <a:rPr b="0" lang="en-US" sz="2400" spc="-1" strike="noStrike">
                <a:solidFill>
                  <a:srgbClr val="000099"/>
                </a:solidFill>
                <a:latin typeface="Berlin Sans FB Demi"/>
              </a:rPr>
              <a:t>, come mia sposa/sposo. Con la grazia di Cristo                                  prometto di esserti fedele sempre,                  nella gioia e nel dolore,                                  nella salute e nella malattia,                           e di amarti e onorarti                                       tutti i giorni della mia vi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1828800"/>
            <a:ext cx="518184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l nuovo Rito presenta tre forme diverse per esprimere il consenso degli sp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00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533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odoni MT Black"/>
              </a:rPr>
              <a:t>Nella I forma il ver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143000"/>
            <a:ext cx="35053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accogliere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2860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odoni MT Black"/>
              </a:rPr>
              <a:t>sostituisce il verbo </a:t>
            </a:r>
            <a:r>
              <a:rPr b="0" i="1" lang="en-US" sz="2400" spc="-1" strike="noStrike">
                <a:solidFill>
                  <a:srgbClr val="008000"/>
                </a:solidFill>
                <a:latin typeface="Bodoni MT Black"/>
              </a:rPr>
              <a:t>“prendere” </a:t>
            </a:r>
            <a:r>
              <a:rPr b="0" lang="en-US" sz="2400" spc="-1" strike="noStrike">
                <a:solidFill>
                  <a:srgbClr val="008000"/>
                </a:solidFill>
                <a:latin typeface="Bodoni MT Black"/>
              </a:rPr>
              <a:t>per esprimere la dimensione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48006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odoni MT Black"/>
              </a:rPr>
              <a:t>Ma implica anche la responsabilità degli spo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5867280"/>
            <a:ext cx="8001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con la grazia di Cristo prometto..."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adam-1" descr=""/>
          <p:cNvPicPr/>
          <p:nvPr/>
        </p:nvPicPr>
        <p:blipFill>
          <a:blip r:embed="rId1"/>
          <a:stretch/>
        </p:blipFill>
        <p:spPr>
          <a:xfrm>
            <a:off x="5256360" y="533520"/>
            <a:ext cx="3724200" cy="5105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523880" y="3886200"/>
            <a:ext cx="1905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on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228600"/>
            <a:ext cx="2819160" cy="2533320"/>
          </a:xfrm>
          <a:prstGeom prst="rect">
            <a:avLst/>
          </a:prstGeom>
          <a:solidFill>
            <a:srgbClr val="00cc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La seconda forma del consenso permette agli sposi di rivolgere il consenso in forma di domanda, l’uno all’altra con una conclusione pronunciata insi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304920"/>
            <a:ext cx="5410080" cy="1191240"/>
          </a:xfrm>
          <a:prstGeom prst="rect">
            <a:avLst/>
          </a:prstGeom>
          <a:solidFill>
            <a:srgbClr val="ccccff"/>
          </a:solidFill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erlin Sans FB Demi"/>
              </a:rPr>
              <a:t>N.</a:t>
            </a:r>
            <a:r>
              <a:rPr b="0" lang="en-US" sz="2400" spc="-1" strike="noStrike">
                <a:solidFill>
                  <a:srgbClr val="000099"/>
                </a:solidFill>
                <a:latin typeface="Berlin Sans FB Demi"/>
              </a:rPr>
              <a:t>, vuoi unire la tua vita alla mia         nel Signore che ci ha creati e redent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4724280"/>
            <a:ext cx="5638680" cy="2288520"/>
          </a:xfrm>
          <a:prstGeom prst="rect">
            <a:avLst/>
          </a:prstGeom>
          <a:solidFill>
            <a:srgbClr val="ccccff"/>
          </a:solidFill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Berlin Sans FB Demi"/>
              </a:rPr>
              <a:t>Noi promettiamo di amarci fedelmente, nella gioia e nel dolore,                             nella salute e nella malattia,                     e di sostenerci l’un l’altro                           tutti i giorni della nostra vi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581280" y="4572000"/>
            <a:ext cx="5334120" cy="2021760"/>
          </a:xfrm>
          <a:prstGeom prst="rect">
            <a:avLst/>
          </a:prstGeom>
          <a:solidFill>
            <a:srgbClr val="ffcc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Eras Bold ITC"/>
              </a:rPr>
              <a:t>Preghiera dei fede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Showcard Gothic"/>
              </a:rPr>
              <a:t>La preghiera può includere anche l’invocazione dei santi, in particolare quelli che vissero in stato coniug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05320" y="304920"/>
            <a:ext cx="5333760" cy="1656000"/>
          </a:xfrm>
          <a:prstGeom prst="rect">
            <a:avLst/>
          </a:prstGeom>
          <a:solidFill>
            <a:srgbClr val="ffcc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Eras Bold ITC"/>
              </a:rPr>
              <a:t>Benedizione degli spo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Showcard Gothic"/>
              </a:rPr>
              <a:t>Il rito prevede anche la possibilità di collocarla dopo lo scambio degli anel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495680"/>
            <a:ext cx="5334120" cy="1747440"/>
          </a:xfrm>
          <a:prstGeom prst="rect">
            <a:avLst/>
          </a:prstGeom>
          <a:solidFill>
            <a:srgbClr val="ffcc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Showcard Gothic"/>
              </a:rPr>
              <a:t>Sono proposte 4 formule diver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Showcard Gothic"/>
              </a:rPr>
              <a:t>La III e la IV prevedono un’acclamazione da parte dell’assembl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ff"/>
            </a:gs>
            <a:gs pos="100000">
              <a:srgbClr val="ff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33520" y="533520"/>
            <a:ext cx="8076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novità rituali e gestuali</a:t>
            </a:r>
            <a:endParaRPr b="0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676520"/>
            <a:ext cx="8153640" cy="39888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Rito del Matrimonio nella Celebrazione della Parol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362320"/>
            <a:ext cx="3886200" cy="825480"/>
          </a:xfrm>
          <a:prstGeom prst="rect">
            <a:avLst/>
          </a:prstGeom>
          <a:solidFill>
            <a:srgbClr val="ffcc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Showcard Gothic"/>
              </a:rPr>
              <a:t>CONSEGNA DELLA BIB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2362320"/>
            <a:ext cx="3886200" cy="2838240"/>
          </a:xfrm>
          <a:prstGeom prst="rect">
            <a:avLst/>
          </a:prstGeom>
          <a:solidFill>
            <a:srgbClr val="ffcc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icevete la Parola di Dio.              Risuoni nella vostra casa,             riscaldi il vostro cuore,                      sia luce ai vostri passi.                       La sua forza custodisca                       il vostro amore nella fedeltà                e vi accompagni nel cammino incontro al Sign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3758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4114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5292720"/>
            <a:ext cx="8229600" cy="1572120"/>
          </a:xfrm>
          <a:prstGeom prst="rect">
            <a:avLst/>
          </a:prstGeom>
          <a:solidFill>
            <a:srgbClr val="ffcc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Eras Bold ITC"/>
              </a:rPr>
              <a:t>Ora, Padre, guarda</a:t>
            </a:r>
            <a:r>
              <a:rPr b="0" lang="en-US" sz="2400" spc="-1" strike="noStrike">
                <a:solidFill>
                  <a:srgbClr val="0033cc"/>
                </a:solidFill>
                <a:latin typeface="Eras Bold ITC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Eras Bold ITC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Eras Bold ITC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Eras Bold ITC"/>
              </a:rPr>
              <a:t>e</a:t>
            </a:r>
            <a:r>
              <a:rPr b="0" lang="en-US" sz="2400" spc="-1" strike="noStrike">
                <a:solidFill>
                  <a:srgbClr val="0033cc"/>
                </a:solidFill>
                <a:latin typeface="Eras Bold ITC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Eras Bold ITC"/>
              </a:rPr>
              <a:t>N</a:t>
            </a:r>
            <a:r>
              <a:rPr b="0" lang="en-US" sz="2400" spc="-1" strike="noStrike">
                <a:solidFill>
                  <a:srgbClr val="000099"/>
                </a:solidFill>
                <a:latin typeface="Eras Bold ITC"/>
              </a:rPr>
              <a:t>, che si affidano a 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Eras Bold ITC"/>
              </a:rPr>
              <a:t>trasfigura quest’opera che hai iniziato in lo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Eras Bold ITC"/>
              </a:rPr>
              <a:t>e rendila segno della tua car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533520"/>
            <a:ext cx="7543800" cy="1313640"/>
          </a:xfrm>
          <a:prstGeom prst="rect">
            <a:avLst/>
          </a:prstGeom>
          <a:solidFill>
            <a:srgbClr val="ccffcc">
              <a:alpha val="5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’edizione italiana del nuovo Rito del Matrimonio,                    rispettando le caratteristiche dell’edizione tipica latina del 1990                     risponde ad una rinnovata coscienza ecclesiale del Matrim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4572000"/>
            <a:ext cx="7543800" cy="1618560"/>
          </a:xfrm>
          <a:prstGeom prst="rect">
            <a:avLst/>
          </a:prstGeom>
          <a:solidFill>
            <a:srgbClr val="ffff99">
              <a:alpha val="50000"/>
            </a:srgbClr>
          </a:solidFill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er la realizzazione del nuovo Rito                                               sono state prese in considerazione anche le riflessioni                         e le osservazioni degli organismi competenti e dei fedeli,               che è stato possibile raccogliere in circa trent’anni di esperienza celebrativa del sacramento del Matrim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486400" y="2971800"/>
            <a:ext cx="2533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30 an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1905120"/>
            <a:ext cx="1295280" cy="1447560"/>
          </a:xfrm>
          <a:prstGeom prst="downArrow">
            <a:avLst>
              <a:gd name="adj1" fmla="val 50000"/>
              <a:gd name="adj2" fmla="val 279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238880" y="2057400"/>
            <a:ext cx="1752840" cy="2654280"/>
          </a:xfrm>
          <a:prstGeom prst="rect">
            <a:avLst/>
          </a:prstGeom>
          <a:solidFill>
            <a:srgbClr val="cc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mbolo reale che contiene e manifesta la sua unione con la Chi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304920"/>
            <a:ext cx="525780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Eras Bold ITC"/>
              </a:rPr>
              <a:t>Il significato specificamente cristiano del M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5562720"/>
            <a:ext cx="685800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Showcard Gothic"/>
              </a:rPr>
              <a:t>Cristo  ha elevato                                  il Matrimonio a 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b342"/>
            </a:gs>
            <a:gs pos="50000">
              <a:srgbClr val="cc9900"/>
            </a:gs>
            <a:gs pos="100000">
              <a:srgbClr val="d8b34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ana" descr=""/>
          <p:cNvPicPr/>
          <p:nvPr/>
        </p:nvPicPr>
        <p:blipFill>
          <a:blip r:embed="rId1"/>
          <a:stretch/>
        </p:blipFill>
        <p:spPr>
          <a:xfrm>
            <a:off x="4114800" y="304920"/>
            <a:ext cx="4697280" cy="6229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304920"/>
            <a:ext cx="3429000" cy="3448080"/>
          </a:xfrm>
          <a:prstGeom prst="rect">
            <a:avLst/>
          </a:prstGeom>
          <a:solidFill>
            <a:srgbClr val="ff9900"/>
          </a:solidFill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n la celebrazione       del sacramento                del Matrimonio                       gli sposi cristiani partecipano all’alleanza sponsale di Cristo             con la Chiesa                     e ricevono la grazia di viverla e manifestarla nel loro rapporto di coppia e nella vita famili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4952880"/>
            <a:ext cx="3429000" cy="1922760"/>
          </a:xfrm>
          <a:prstGeom prst="rect">
            <a:avLst/>
          </a:prstGeom>
          <a:solidFill>
            <a:srgbClr val="cc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howcard Gothic"/>
              </a:rPr>
              <a:t>Si tratta di una celebrazione                                         in cui si attua un evento salv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380880"/>
            <a:ext cx="3733920" cy="119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Eras Bold ITC"/>
              </a:rPr>
              <a:t>Dimensione ecclesiale del sacramento del M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590920"/>
            <a:ext cx="3581640" cy="26542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a coppia e la famiglia,              in virtù del sacramento, diventano immagine viva del mistero stesso della Chiesa e partecipano della sua fecond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5641920"/>
            <a:ext cx="8153280" cy="100872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Attraverso la testimonianza di un amore oblativo, fedele, indissolubile e fecondo, gli sposi cristiani accolgono e trasmettono in modo peculiare e insostituibile il dono della salvezza che viene da Cri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Trinita" descr=""/>
          <p:cNvPicPr/>
          <p:nvPr/>
        </p:nvPicPr>
        <p:blipFill>
          <a:blip r:embed="rId1"/>
          <a:stretch/>
        </p:blipFill>
        <p:spPr>
          <a:xfrm>
            <a:off x="4343400" y="762120"/>
            <a:ext cx="4406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553080" y="304920"/>
            <a:ext cx="2286000" cy="2838240"/>
          </a:xfrm>
          <a:prstGeom prst="rect">
            <a:avLst/>
          </a:prstGeom>
          <a:solidFill>
            <a:srgbClr val="ffcc00">
              <a:alpha val="5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e ogni celebrazione liturgica                  anche la celebrazione del Matrimonio                 è attuata “nello Spirito Santo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4267080"/>
            <a:ext cx="6324840" cy="9169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La possibilità di collocare la benedizione nuziale dopo il consenso, rivela l’opera dello Spirito Santo nel Sacramento, nella cui forza si realizza il mistero nell’oggi celebr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5715000"/>
            <a:ext cx="6248520" cy="6426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La possibilità di stendere il velo sugli sposi (</a:t>
            </a:r>
            <a:r>
              <a:rPr b="0" i="1" lang="it-IT" sz="1800" spc="-1" strike="noStrike">
                <a:solidFill>
                  <a:srgbClr val="003300"/>
                </a:solidFill>
                <a:latin typeface="Arial"/>
              </a:rPr>
              <a:t>velatio</a:t>
            </a: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) là dove esiste la consuetudine o con il permesso del Vesco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04920"/>
            <a:ext cx="3809880" cy="119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Eras Bold ITC"/>
              </a:rPr>
              <a:t>La presenza dello Spirito Santo nel Matrimonio crist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4267080"/>
            <a:ext cx="2057400" cy="398880"/>
          </a:xfrm>
          <a:prstGeom prst="rect">
            <a:avLst/>
          </a:prstGeom>
          <a:solidFill>
            <a:srgbClr val="00ff00">
              <a:alpha val="50000"/>
            </a:srgbClr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Eras Bold ITC"/>
              </a:rPr>
              <a:t>In particol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029200" y="380880"/>
            <a:ext cx="3886200" cy="1008720"/>
          </a:xfrm>
          <a:prstGeom prst="rect">
            <a:avLst/>
          </a:prstGeom>
          <a:solidFill>
            <a:srgbClr val="ffff00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howcard Gothic"/>
              </a:rPr>
              <a:t>nell’esprimere il loro consenso, gli sposi                 sono ministri della grazia di Cri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209680"/>
            <a:ext cx="3962160" cy="13136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ll’adattamento sono state messe in evidenza le diverse possibilità con cui gli sposi sono coinvolti nell’azione ritu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388620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Eras Bold ITC"/>
              </a:rPr>
              <a:t>La ministerialità degli sposi nella celeb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4038480"/>
            <a:ext cx="5562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la processione al fonte per la memoria del Battes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648320"/>
            <a:ext cx="297180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la venerazione del Vang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5257800"/>
            <a:ext cx="54864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la possibilità di scegliere le diverse formule per esprimere il consenso e per invocare la benedi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6095880"/>
            <a:ext cx="41907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la presentazione delle offerte all’alt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dbdb57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600200"/>
            <a:ext cx="8229600" cy="1191240"/>
          </a:xfrm>
          <a:prstGeom prst="rect">
            <a:avLst/>
          </a:prstGeom>
          <a:solidFill>
            <a:srgbClr val="66ff33">
              <a:alpha val="50000"/>
            </a:srgbClr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Nell’esperienza pastorale italiana si verifica sempre di più il caso di coppie che, pur non avendo maturato un chiaro orientamento cristiano e non vivendo una piena appartenenza alla Chiesa, desiderano la celebrazione religiosa del Matrimonio essendo battezzati e non rifiutando esplicitamente la fe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3048120"/>
            <a:ext cx="6934320" cy="119124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Berlin Sans FB Demi"/>
              </a:rPr>
              <a:t>Perché il Rito proposto per tali situazioni non venga percepito  come una forma diminuita e debole, si è preferito dare al secondo capitolo non il titolo “Senza Messa”, ma quello positivo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380880"/>
            <a:ext cx="502920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Eras Bold ITC"/>
              </a:rPr>
              <a:t>Gradualità nel cammino di fede e nell’esperienza di Chi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4495680"/>
            <a:ext cx="99072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880" y="5334120"/>
            <a:ext cx="8229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elebrazione del Matrimonio nella liturgia della Parola</a:t>
            </a:r>
            <a:endParaRPr b="0" i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50000">
              <a:srgbClr val="00ffff"/>
            </a:gs>
            <a:gs pos="100000">
              <a:srgbClr val="00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457200"/>
            <a:ext cx="2743200" cy="129024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Eras Bold ITC"/>
              </a:rPr>
              <a:t>Riti d’ingr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howcard Gothic"/>
              </a:rPr>
              <a:t>La Memoria     del Battes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battesimo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4492800" cy="6248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2209680"/>
            <a:ext cx="3429000" cy="1777320"/>
          </a:xfrm>
          <a:prstGeom prst="rect">
            <a:avLst/>
          </a:prstGeom>
          <a:solidFill>
            <a:srgbClr val="3333cc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Eras Bold ITC"/>
              </a:rPr>
              <a:t>Gli sposi possono fare la processione al fonte battesi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Eras Bold ITC"/>
              </a:rPr>
              <a:t>E’ comunque previsto il gesto dell’asper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3520" y="5715000"/>
            <a:ext cx="8076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50000">
                      <a:srgbClr val="0000ff"/>
                    </a:gs>
                    <a:gs pos="100000">
                      <a:srgbClr val="00cc99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novità rituali e gestuali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50000">
                    <a:srgbClr val="0000ff"/>
                  </a:gs>
                  <a:gs pos="100000">
                    <a:srgbClr val="00cc99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5T12:08:00Z</dcterms:created>
  <dc:creator>NEC Computers International</dc:creator>
  <dc:description/>
  <dc:language>en-US</dc:language>
  <cp:lastModifiedBy>Falco</cp:lastModifiedBy>
  <dcterms:modified xsi:type="dcterms:W3CDTF">2004-11-11T07:16:34Z</dcterms:modified>
  <cp:revision>36</cp:revision>
  <dc:subject/>
  <dc:title>Presentazione di PowerPoint</dc:title>
</cp:coreProperties>
</file>