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lic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EDD-CF9D-4F24-A46C-2820259D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20B-1F0C-4212-A99A-E7B3B3E5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F70-E11A-415E-ADED-11DFBE5D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8DD-A5F2-431C-A2A0-1835FC7F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DFB-07BB-466B-9AE8-C3254D60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189-C358-4287-BAF5-302EC7BD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5E7-CB81-46D2-8923-2D1B5A41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8A5-D5DB-4000-BDF8-AC7036A0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4B2-4AC7-4AF2-8057-B97E101E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AEB-09BE-4061-9E6D-66C75AA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1A8-8A6A-4409-854F-8CC0C598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430-A714-4A65-9DB3-3BAA8AA4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3266-6A6B-4708-B91A-BDB7A8318E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1520-8E40-4C91-979D-079FEB7D5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2AA-BCB0-48EF-8713-C9D1A97CDC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2AB89-C77E-4CA6-B351-A5293DB07899}" type="datetime1">
              <a:rPr lang="en-US"/>
              <a:t>07/30/26</a:t>
            </a:fld>
          </a:p>
        </p:txBody>
      </p:sp>
    </p:spTree>
  </p:cSld>
  <p:transition spd="slow">
    <p:fade thruBlk="true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89080" y="549360"/>
            <a:ext cx="4965840" cy="568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01480" y="-108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TTEGGIAMENTI NEGATIVI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5200" y="736200"/>
            <a:ext cx="851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NEGAZIONE DE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Non ci si accorge del problema. Esiste il pericolo che la logica della società entri nella logica della coppia, oppure si minimizza il pericolo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680" y="2492280"/>
            <a:ext cx="886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ff"/>
              </a:buClr>
              <a:buFont typeface="Arial"/>
              <a:buAutoNum type="arabicParenR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EGU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Vivere alla moda, della società, portando magari inconsciamente, la logica della società nella cop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" y="3790800"/>
            <a:ext cx="85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arenR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FUGA - ISO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La società è cattiva! - Creiamo il nostro mondo lontano dalla sua influ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9440" y="5022720"/>
            <a:ext cx="87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ff"/>
              </a:buClr>
              <a:buFont typeface="Arial"/>
              <a:buAutoNum type="arabicParenR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TTA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La società è da combattere! - in questo mondo non vale la pena sposarsi ed avere fig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66B-4E33-46E5-BA5A-7885C0478D8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D3E6F-A1AB-40F4-ABFA-B45573C1B66C}" type="datetime1">
              <a:rPr lang="en-US"/>
              <a:t>07/30/26</a:t>
            </a:fld>
          </a:p>
        </p:txBody>
      </p:sp>
    </p:spTree>
  </p:cSld>
  <p:transition spd="slow">
    <p:randomBar dir="vert"/>
    <p:sndAc>
      <p:stSnd>
        <p:snd r:embed="rId2" name="click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89080" y="549360"/>
            <a:ext cx="4965840" cy="568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05520" y="-10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TTEGGIAMENTI POSI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2600" y="371520"/>
            <a:ext cx="88614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arenR"/>
              <a:tabLst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VERE COSCIENZA DE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Mettendo a punto un progetto di coppia che tenga conto del contesto sociale in cui siamo inser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33480" y="1952640"/>
            <a:ext cx="77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arenR" startAt="2"/>
              <a:tabLst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NALISI DI OGNI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Verificare ogni volta quale logica vogliamo segu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040" y="2736360"/>
            <a:ext cx="888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arenR" startAt="3"/>
              <a:tabLst>
                <a:tab algn="l" pos="457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MPE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…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 migliorare la società che ci circonda [ambiente- lavoro- amicizie] trasfondendo in essa quanto più  è possibile la logica dell’amore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6120" y="4554360"/>
            <a:ext cx="85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Non riflettere abbastanza sui condizionamenti che la società tende a imporre a tutti, magari in modo subdolo, potrebbe pregiudicare la crescita e la durata del vostro a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0A3-1E43-4CDB-8AB2-55C2DA21A3A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3AB09-8408-4BA2-B99C-F20E927BF819}" type="datetime1">
              <a:rPr lang="en-US"/>
              <a:t>07/30/26</a:t>
            </a:fld>
          </a:p>
        </p:txBody>
      </p:sp>
    </p:spTree>
  </p:cSld>
  <p:transition spd="slow">
    <p:pull dir="l"/>
    <p:sndAc>
      <p:stSnd>
        <p:snd r:embed="rId2" name="click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89080" y="549360"/>
            <a:ext cx="4965840" cy="568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440" y="531720"/>
            <a:ext cx="1060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F  I N 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51880" y="588960"/>
            <a:ext cx="1039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F  I N 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512-7CDE-458A-829E-244DB29B213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58E60-96B3-472E-AEC3-15006C21E65C}" type="datetime1">
              <a:rPr lang="en-US"/>
              <a:t>07/30/26</a:t>
            </a:fld>
          </a:p>
        </p:txBody>
      </p:sp>
    </p:spTree>
  </p:cSld>
  <p:transition spd="slow">
    <p:fade thruBlk="true"/>
    <p:sndAc>
      <p:stSnd>
        <p:snd r:embed="rId2" name="click.wav"/>
      </p:stSnd>
    </p:sndAc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autoRev="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Rot by="43200000">
                                      <p:cBhvr>
                                        <p:cTn id="407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autoRev="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Rot by="43200000">
                                      <p:cBhvr>
                                        <p:cTn id="409" dur="3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3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54936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54936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COMUNITA’ PARROCCHIALE DI CARPI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SAN NICOLA DI MIRA - SAN CIRILLO D’ ALESSA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637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inerario di fidanzati in preparazione al Sacramento del m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40766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A COPPIA NEL QUOTID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A4E-D607-4AF8-A10D-C6183753F4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D0EB6-36FC-42A9-97E0-40EE86196DEC}" type="datetime1">
              <a:rPr lang="en-US"/>
              <a:t>07/30/26</a:t>
            </a:fld>
          </a:p>
        </p:txBody>
      </p:sp>
    </p:spTree>
  </p:cSld>
  <p:transition spd="slow">
    <p:zoom dir="out"/>
    <p:sndAc>
      <p:stSnd>
        <p:snd r:embed="rId1" name="click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89080" y="549360"/>
            <a:ext cx="4965840" cy="568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46760" y="40356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LA COPPIA NEL QUOTIDIAN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520" y="972000"/>
            <a:ext cx="865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Comprendere che l’amore ha una sua logica particolare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diversa  da quella in uso nella socie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La società e la coppia hanno esigenze di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Prendere coscienza del problema per evitare errori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impostazione nel rapporto di copp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0772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 Black"/>
              </a:rPr>
              <a:t>Il vostro “essere coppia”, vive, si esprime e cresce nella vita di tutti i giorni:        </a:t>
            </a:r>
            <a:r>
              <a:rPr b="0" lang="en-US" sz="2000" spc="-1" strike="noStrike" u="sng">
                <a:solidFill>
                  <a:srgbClr val="9933ff"/>
                </a:solidFill>
                <a:uFillTx/>
                <a:latin typeface="Arial Black"/>
              </a:rPr>
              <a:t>è in relazione con altri nella società.</a:t>
            </a:r>
            <a:r>
              <a:rPr b="1" lang="en-US" sz="2000" spc="-1" strike="noStrike" u="sng">
                <a:solidFill>
                  <a:srgbClr val="9933ff"/>
                </a:solidFill>
                <a:uFillTx/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39632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 Black"/>
                <a:ea typeface="Times New Roman"/>
              </a:rPr>
              <a:t>Se il contesto in cui la coppia è inserita </a:t>
            </a: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 Black"/>
                <a:ea typeface="Times New Roman"/>
              </a:rPr>
              <a:t>la sostiene</a:t>
            </a: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 Black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Arial Black"/>
                <a:ea typeface="Times New Roman"/>
              </a:rPr>
              <a:t>e la valorizza, la coppia realizza più facilmente il suo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 Black"/>
                <a:ea typeface="Times New Roman"/>
              </a:rPr>
              <a:t>Se il contesto in cui è inserita la coppia </a:t>
            </a: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 Black"/>
                <a:ea typeface="Times New Roman"/>
              </a:rPr>
              <a:t>è ostile</a:t>
            </a:r>
            <a:r>
              <a:rPr b="0" lang="en-US" sz="2000" spc="-1" strike="noStrike">
                <a:solidFill>
                  <a:srgbClr val="0099ff"/>
                </a:solidFill>
                <a:latin typeface="Arial Black"/>
                <a:ea typeface="Times New Roman"/>
              </a:rPr>
              <a:t>, essa soffre e corre il rischio di frantuma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E59-C587-4B0A-BC22-F3CE8CA63C2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17C7B-4C62-41FD-8051-ABDAFBE6285C}" type="datetime1">
              <a:rPr lang="en-US"/>
              <a:t>07/30/26</a:t>
            </a:fld>
          </a:p>
        </p:txBody>
      </p:sp>
    </p:spTree>
  </p:cSld>
  <p:transition spd="slow">
    <p:dissolve/>
    <p:sndAc>
      <p:stSnd>
        <p:snd r:embed="rId2" name="click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89080" y="549360"/>
            <a:ext cx="4965840" cy="568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7280" y="-216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l lavor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fluisce molto sulla vita di coppia non solo per il tempo che occupa sottraendolo alla famiglia, ma soprattutto per lo stile di vita che ne viene fortemente influenzato, sui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valori riconosciuti come important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per la coppia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4115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l rapport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n le rispettiv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amigli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i origine,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di libert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 di vicinanza, di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ffetto e indipendenz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deve ess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213156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33ff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Equilib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Posi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Senza tag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Senza interferen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67380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 Black"/>
                <a:ea typeface="Times New Roman"/>
              </a:rPr>
              <a:t>LA QUOTIDIANITA’ E’ QUINDI IL LUOGO DI ESPRESSIONE DELLA COPPIA.</a:t>
            </a:r>
            <a:r>
              <a:rPr b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410724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om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135000"/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me far vivere la nostra coppia ogni giorno, coltivando queste caratteristiche essenziali dell’amore?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135000"/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me essere proprio noi protagonisti del nostro amore nella quotidianità, nella società, nel lavoro, nella famiglia?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86A-BA2B-4015-81F5-2A3A21D5095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61E3B-9E28-4208-B255-C60059A2E3A5}" type="datetime1">
              <a:rPr lang="en-US"/>
              <a:t>07/30/26</a:t>
            </a:fld>
          </a:p>
        </p:txBody>
      </p:sp>
    </p:spTree>
  </p:cSld>
  <p:transition spd="slow">
    <p:zoom dir="in"/>
    <p:sndAc>
      <p:stSnd>
        <p:snd r:embed="rId2" name="click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89080" y="549360"/>
            <a:ext cx="4965840" cy="568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6320" y="-1080"/>
            <a:ext cx="61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Bisogna aver chiaro quali sono i modi di: 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3186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vive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alizzarl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gi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ens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31240" y="162756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…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ell’a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925200">
            <a:off x="4572000" y="1989000"/>
            <a:ext cx="685800" cy="343080"/>
          </a:xfrm>
          <a:custGeom>
            <a:avLst/>
            <a:gdLst>
              <a:gd name="textAreaLeft" fmla="*/ 119880 w 685800"/>
              <a:gd name="textAreaRight" fmla="*/ 497160 w 685800"/>
              <a:gd name="textAreaTop" fmla="*/ 45720 h 343080"/>
              <a:gd name="textAreaBottom" fmla="*/ 2973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447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492280"/>
            <a:ext cx="3743280" cy="936720"/>
          </a:xfrm>
          <a:prstGeom prst="downArrowCallout">
            <a:avLst>
              <a:gd name="adj1" fmla="val 99913"/>
              <a:gd name="adj2" fmla="val 99904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39320" y="256536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OGICA DELL’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2520" y="378828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Times New Roman"/>
              </a:rPr>
              <a:t>Che deve guidare la coppia …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9000" y="4219920"/>
            <a:ext cx="80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 quali sono le logiche che si incontrano nella società?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5960" y="4821840"/>
            <a:ext cx="503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9933ff"/>
              </a:buClr>
              <a:buSzPct val="130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Logica della QUOTIDIAN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SzPct val="130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Logica della SOCIE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FED-9890-4BAD-A99B-54648CD60ED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E3AFA-9CD7-4CF5-8011-8E753409EE23}" type="datetime1">
              <a:rPr lang="en-US"/>
              <a:t>07/30/26</a:t>
            </a:fld>
          </a:p>
        </p:txBody>
      </p:sp>
    </p:spTree>
  </p:cSld>
  <p:transition spd="slow">
    <p:wedge/>
    <p:sndAc>
      <p:stSnd>
        <p:snd r:embed="rId2" name="click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89080" y="549360"/>
            <a:ext cx="4965840" cy="568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10800000">
            <a:off x="2368440" y="2036520"/>
            <a:ext cx="596880" cy="647640"/>
          </a:xfrm>
          <a:custGeom>
            <a:avLst/>
            <a:gdLst>
              <a:gd name="textAreaLeft" fmla="*/ 199080 w 596880"/>
              <a:gd name="textAreaRight" fmla="*/ 511200 w 59688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227280" y="1917360"/>
            <a:ext cx="720720" cy="863640"/>
          </a:xfrm>
          <a:custGeom>
            <a:avLst/>
            <a:gdLst>
              <a:gd name="textAreaLeft" fmla="*/ 0 w 720720"/>
              <a:gd name="textAreaRight" fmla="*/ 721080 w 720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03" stAng="10800000" swAng="5400000"/>
                <a:lnTo>
                  <a:pt x="16130" y="3257"/>
                </a:lnTo>
                <a:lnTo>
                  <a:pt x="16130" y="0"/>
                </a:lnTo>
                <a:lnTo>
                  <a:pt x="21600" y="6079"/>
                </a:lnTo>
                <a:lnTo>
                  <a:pt x="16130" y="12158"/>
                </a:lnTo>
                <a:lnTo>
                  <a:pt x="16130" y="8901"/>
                </a:lnTo>
                <a:lnTo>
                  <a:pt x="12427" y="8901"/>
                </a:lnTo>
                <a:arcTo wR="6783" hR="3259" stAng="16200000" swAng="-5400000"/>
                <a:lnTo>
                  <a:pt x="5644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7200" y="1843560"/>
            <a:ext cx="1569240" cy="459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ue ent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" y="4651920"/>
            <a:ext cx="91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OPP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QUOTIDIANET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OCIETA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59640" y="472428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472428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4221000"/>
            <a:ext cx="503280" cy="1224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6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778-5F7D-459D-B509-E61F38ECB23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0C782-0987-484C-BA80-49CB1D94C9FB}" type="datetime1">
              <a:rPr lang="en-US"/>
              <a:t>07/30/26</a:t>
            </a:fld>
          </a:p>
        </p:txBody>
      </p:sp>
    </p:spTree>
  </p:cSld>
  <p:transition spd="slow">
    <p:blinds dir="horz"/>
    <p:sndAc>
      <p:stSnd>
        <p:snd r:embed="rId2" name="click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49480" y="588960"/>
            <a:ext cx="496584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44440" y="357120"/>
          <a:ext cx="8655120" cy="5911920"/>
        </p:xfrm>
        <a:graphic>
          <a:graphicData uri="http://schemas.openxmlformats.org/drawingml/2006/table">
            <a:tbl>
              <a:tblPr/>
              <a:tblGrid>
                <a:gridCol w="331920"/>
                <a:gridCol w="3854520"/>
                <a:gridCol w="446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ca dell’amore 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 guidare la cop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ca della quotidianità che si incontra spesso nella socie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S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amo perché ci sei - mi basta sapere che esisti. Esisti …quin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i importante perché hai tante cose – hai tante qualità - hai potere – fascino -  fama – soldi - sei importante–hai –quindi  esist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amo perché sei proprio tu con i pregi e difetti - sei un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 per il ruolo che hai - per quanto sai fare - per quanto mi serv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amo per sempre e ho paura di perderti. Conseguenza positiva: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edeltà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guenza patologica: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gelos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MBI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 nuovo è bello - bisogna cambiare sempre - si inventano e si seguono le mode – è di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breve dura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arsi all’altro senza pretendere nulla in cambio.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AMB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do qualcosa solo se tu mi dai il contraccambio. Conseguenze negative: chiedere sempre. Opportunismo - scarsa solidarietà - solo diritti - pochi dover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FEE-C10C-45C4-B51B-8394AA1DB97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3985B-D0BE-4739-9263-A22B658F74C2}" type="datetime1">
              <a:rPr lang="en-US"/>
              <a:t>07/30/26</a:t>
            </a:fld>
          </a:p>
        </p:txBody>
      </p:sp>
    </p:spTree>
  </p:cSld>
  <p:transition spd="slow">
    <p:fade thruBlk="true"/>
    <p:sndAc>
      <p:stSnd>
        <p:snd r:embed="rId2" name="click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89080" y="549360"/>
            <a:ext cx="4965840" cy="568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7000" y="12564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La logica della vita quotidiana non è sempre negativa solo che risponde a obiettivi diversi da quella della coppia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9600" y="994320"/>
            <a:ext cx="822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unzio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è molto importante sul lavoro dove prevale il criterio della competenz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 nella coppia la logica non è semp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fficientis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687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a moglie è amabile anche se è una pessima cuoca; l’idraulico deve essere bravo non importa se è un pessimo marito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6040" y="378144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l problema è che spesso la logica della vita quotidiana entra anche nella coppia e tende a snaturarne il rappo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7280" y="443664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coppia deve essere sempre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ttenta e vigi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lle scelte che 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lavoro, figli, casa, educazio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] e deve chiedersi continuamente se la scelta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B5E-2ADB-4761-AEC9-425D0121D9B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870DD-3D28-41AB-B29F-E1C1CF393E30}" type="datetime1">
              <a:rPr lang="en-US"/>
              <a:t>07/30/26</a:t>
            </a:fld>
          </a:p>
        </p:txBody>
      </p:sp>
    </p:spTree>
  </p:cSld>
  <p:transition spd="slow">
    <p:checker dir="vert"/>
    <p:sndAc>
      <p:stSnd>
        <p:snd r:embed="rId2" name="click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2089080" y="549360"/>
            <a:ext cx="4965840" cy="568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9200" y="28620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RRISPONDE ALLA LOGICA DELL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89240" y="90216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PPIA - AMOR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2080" y="145620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O ALLA LOGICA DELLA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10360" y="213732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CIETA’ - QUOTIDIAN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3040" y="2941920"/>
            <a:ext cx="8050320" cy="825480"/>
          </a:xfrm>
          <a:prstGeom prst="rect">
            <a:avLst/>
          </a:prstGeom>
          <a:gradFill rotWithShape="0">
            <a:gsLst>
              <a:gs pos="0">
                <a:srgbClr val="556964"/>
              </a:gs>
              <a:gs pos="100000">
                <a:srgbClr val="bae4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Times New Roman"/>
              </a:rPr>
              <a:t>La logica dell’amore è il criterio che dovrà guidare sempre le scelte della coppia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9880" y="431172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 FRONTE AL PROBLEMA LOGIC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“AMORE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 LOGIC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SOCIETA’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I POSSONO ESS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661-065F-40A8-A2AB-26001824464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96A1D-4552-48F6-9FC8-5994290E5275}" type="datetime1">
              <a:rPr lang="en-US"/>
              <a:t>07/30/26</a:t>
            </a:fld>
          </a:p>
        </p:txBody>
      </p:sp>
    </p:spTree>
  </p:cSld>
  <p:transition spd="slow">
    <p:zoom dir="out"/>
    <p:sndAc>
      <p:stSnd>
        <p:snd r:embed="rId2" name="click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1:52:52Z</dcterms:created>
  <dc:creator>Di Perna</dc:creator>
  <dc:description/>
  <dc:language>en-US</dc:language>
  <cp:lastModifiedBy>Di Perna</cp:lastModifiedBy>
  <dcterms:modified xsi:type="dcterms:W3CDTF">2006-11-03T20:39:19Z</dcterms:modified>
  <cp:revision>11</cp:revision>
  <dc:subject/>
  <dc:title>Diapositiva 1</dc:title>
</cp:coreProperties>
</file>