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.jpeg" ContentType="image/jpeg"/>
  <Override PartName="/ppt/media/camera.wav" ContentType="audio/x-wav"/>
  <Override PartName="/ppt/media/wind.wav" ContentType="audio/x-wav"/>
  <Override PartName="/ppt/media/chimes.wav" ContentType="audio/x-wav"/>
  <Override PartName="/ppt/media/click.wav" ContentType="audio/x-wav"/>
  <Override PartName="/ppt/media/breeze.wav" ContentType="audio/x-wav"/>
  <Override PartName="/ppt/media/laser.wav" ContentType="audio/x-wav"/>
  <Override PartName="/ppt/media/hammer.wav" ContentType="audio/x-wav"/>
  <Override PartName="/ppt/media/cashreg.wav" ContentType="audio/x-wav"/>
  <Override PartName="/ppt/media/arrow.wav" ContentType="audio/x-wav"/>
  <Override PartName="/ppt/media/coin.wav" ContentType="audio/x-wav"/>
  <Override PartName="/ppt/media/voltage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434-5046-45EC-A002-4981DE36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BB9-D921-4F28-8F16-754F68C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33F-12EC-4F34-BDBA-8EC7963D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B4C-2CEF-4935-9F6A-B6CF4A5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45B6-66A9-4A03-8977-85631359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25A58-8FAA-4D6E-AED7-3EF58D8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31336-E857-4FB8-9F22-4E694915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69DD2-EDE8-45E0-8658-17A692D7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387BB-FF74-42B3-83CE-86B6324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69931-83FB-4167-BC2C-CA80981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656D-7AB8-4AE3-9677-F58B59D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E81-8A67-4A4E-9269-3149E474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8017-646A-4ABA-A20C-92162A6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25967-F4B5-4A4F-9FC5-9A1984E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5EF2F-48D3-4303-8C9A-C5BC04B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6D2E-1BE0-4679-AFEC-353774D3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FFA8D-190F-4296-A7A3-92E86201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367-7932-46AA-B373-264BA8F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6C1-FD96-43E4-9D5A-FD35A59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429-4E8C-431A-BD09-007F7C2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F7A-BDBF-4A3C-B3D2-5559EAC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90A-F96C-4E10-84CF-39331B2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BCB-AA81-489B-BAAE-74F9FA9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025-668C-4202-A528-6AFA9FD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047-73DB-484B-BDE4-C2F9FD99C5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F3A-384A-44A8-845F-9040C8511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22ED-3F07-4DF3-A59E-ABBF777F7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DF2-A2AA-456E-B0A0-7B574F9C6C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laser.wav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hammer.wav"/><Relationship Id="rId8" Type="http://schemas.openxmlformats.org/officeDocument/2006/relationships/audio" Target="../media/click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breeze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INERARIO DI FIDANZATI IN PREPARAZIONE AL SACRAMENTO DEL MATRIMONI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VIVERE UNA RELAZIONE PROFONDA BISOGNA ESSERE MATU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1280" y="765000"/>
            <a:ext cx="143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ictorian LET"/>
              </a:rPr>
              <a:t>    </a:t>
            </a: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ictorian LET"/>
              </a:rPr>
              <a:t>Menu 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ictorian LET"/>
              <a:ea typeface="Victori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ictorian LET"/>
              </a:rPr>
              <a:t>Principale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ictorian LET"/>
              <a:ea typeface="Victorian LE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4F19-440D-47ED-8CF0-0BCC914158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B9A2D83-5029-4B06-96A0-45F4544EC9A8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95640" y="260280"/>
          <a:ext cx="4952880" cy="130968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 coppia SBILANCIATA difficilmente dur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hi non è capace di stare da solo, non è adatto a fare coppia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13160" y="1772280"/>
            <a:ext cx="61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bertà dei  partners ed esigenze della copp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o negativo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1720" y="2780280"/>
            <a:ext cx="660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apacità di coniug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la legittima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bertà dei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le esigenze della copp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560" y="3788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bertà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1680" y="3788280"/>
            <a:ext cx="36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re quello che si vuo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lso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4221000"/>
            <a:ext cx="533160" cy="571680"/>
          </a:xfrm>
          <a:prstGeom prst="downArrow">
            <a:avLst>
              <a:gd name="adj1" fmla="val 50000"/>
              <a:gd name="adj2" fmla="val 268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27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5320" y="5012280"/>
            <a:ext cx="71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in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zionamenti      Fisici – psicologi – culturali - religiosi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084640"/>
            <a:ext cx="75960" cy="860400"/>
          </a:xfrm>
          <a:custGeom>
            <a:avLst/>
            <a:gdLst>
              <a:gd name="textAreaLeft" fmla="*/ 0 w 75960"/>
              <a:gd name="textAreaRight" fmla="*/ 27360 w 75960"/>
              <a:gd name="textAreaTop" fmla="*/ 22320 h 860400"/>
              <a:gd name="textAreaBottom" fmla="*/ 838080 h 86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49D-16A5-4F39-97E7-20FE96B8BA9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E4770-A783-46E5-ACBF-75D98CDF5AAC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4" dur="1" fill="hold"/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76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120" y="51804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bertà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03640" y="404640"/>
          <a:ext cx="3886200" cy="7002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ita dei condizionamenti 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prendere coscienza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8360" y="1844640"/>
          <a:ext cx="2895480" cy="7002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 continu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ome la maturità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11600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3500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283560"/>
            <a:ext cx="14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l singo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49400" y="3139920"/>
          <a:ext cx="5610240" cy="700200"/>
        </p:xfrm>
        <a:graphic>
          <a:graphicData uri="http://schemas.openxmlformats.org/drawingml/2006/table">
            <a:tbl>
              <a:tblPr/>
              <a:tblGrid>
                <a:gridCol w="56102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vissuto sol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on i suoi condizionamenti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fatto sempre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celte individua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779280" y="429156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 l’ ascol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724280"/>
            <a:ext cx="533520" cy="571680"/>
          </a:xfrm>
          <a:prstGeom prst="downArrow">
            <a:avLst>
              <a:gd name="adj1" fmla="val 50000"/>
              <a:gd name="adj2" fmla="val 267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35360" y="5444280"/>
            <a:ext cx="68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te di vita condiv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on le opportune identità personal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602-D3C6-4B40-895B-229AF1D1A8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A870-5107-4F4D-8EA2-95972E291BF4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5" dur="1" fill="hold"/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54040" y="179640"/>
            <a:ext cx="615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VERE UN RELAZIONE PROFO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GNA ESSERE MATU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180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iettivo del 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olare la conoscenza di se stess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i propr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360" y="1987920"/>
            <a:ext cx="19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5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et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5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petti posi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5200" y="2707200"/>
            <a:ext cx="5974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oscer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sogna conoscere l’alt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noscere l’ altro bisogna conosce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 stess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2800" y="3499560"/>
            <a:ext cx="59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flettere sulla volontà di maturar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ers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avere un confronto corretto con l’al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3560" y="4291560"/>
            <a:ext cx="664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s. coppia è già formata ed ha un progetto per il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 sicuramente dei dubbi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5280" y="5228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la faremo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720" y="515700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miglia fel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530064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A74-66E5-4546-8DD7-E34DF7093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22045-38C9-4C69-A5D5-149664454E19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83" dur="1" fill="hold"/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40" y="322920"/>
            <a:ext cx="818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te consapevoli che esiste la possibilità di fallir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 lo volete evi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icologi:   un motivo frequente è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76360" y="1557360"/>
          <a:ext cx="5867280" cy="1004760"/>
        </p:xfrm>
        <a:graphic>
          <a:graphicData uri="http://schemas.openxmlformats.org/drawingml/2006/table">
            <a:tbl>
              <a:tblPr/>
              <a:tblGrid>
                <a:gridCol w="586728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aturità di fondo di uno o entrambi i coniugi che li rende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incapaci di entrare in relazione profonda e totale con un partne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50920" y="289908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 evitare sorpre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sogna imparare a conoscere i risvolti problematici che ciascuno di noi h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 affrontare la vita a due bisogna aver raggiunto una certa maturità person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157720"/>
            <a:ext cx="228600" cy="133560"/>
          </a:xfrm>
          <a:prstGeom prst="rightArrow">
            <a:avLst>
              <a:gd name="adj1" fmla="val 50000"/>
              <a:gd name="adj2" fmla="val 42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440" y="50839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o: chi lo è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4946760"/>
            <a:ext cx="3456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si misura la matur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0720" y="501228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esiste uno 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6F7-9029-4F9D-9BC7-A32DD045C15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6C966-4542-4B94-8144-4D7235906932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9720" y="403920"/>
            <a:ext cx="56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un processo continuo non un punto di arr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907920"/>
          <a:ext cx="5889600" cy="1309680"/>
        </p:xfrm>
        <a:graphic>
          <a:graphicData uri="http://schemas.openxmlformats.org/drawingml/2006/table">
            <a:tbl>
              <a:tblPr/>
              <a:tblGrid>
                <a:gridCol w="5889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può affermare che una persona è matura se si assume coscientemente un impegno di ulteriore maturazion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di controllo su se stesso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83400" y="256536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stono sicuri segni che fanno sospettare una maturità o una immaturità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2973960"/>
            <a:ext cx="26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ur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i positi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7960" y="3932640"/>
            <a:ext cx="787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e l’abitudine a riflettere su se stes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ervare i propri comportamenti e saperli mettere in discuss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e l’abitudine a dirsi la verità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6400" y="537264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ita di coppia richiede maturità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1AD-BAEC-44BE-AE67-7EF1E42FD3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701A8-8378-4D27-861A-9B62251F943D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05160" y="403920"/>
            <a:ext cx="43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non è capace di guardarsi den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non si mette in discussione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1268280"/>
            <a:ext cx="533520" cy="571680"/>
          </a:xfrm>
          <a:prstGeom prst="downArrow">
            <a:avLst>
              <a:gd name="adj1" fmla="val 50000"/>
              <a:gd name="adj2" fmla="val 267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9040" y="2188800"/>
            <a:ext cx="78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.. non sarà mai capace di entrare in relazione profonda con un al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3480" y="2996280"/>
            <a:ext cx="780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 la riflessione ci si accorge ch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nessuno senza difet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ita è breve e va sfruttata al megl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esiste la felicità allo stato pur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ognuno ha i suoi problem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2360" y="4869000"/>
          <a:ext cx="5867280" cy="1004760"/>
        </p:xfrm>
        <a:graphic>
          <a:graphicData uri="http://schemas.openxmlformats.org/drawingml/2006/table">
            <a:tbl>
              <a:tblPr/>
              <a:tblGrid>
                <a:gridCol w="586728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02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guenza di tale riflessione sono un atteggiamento di tolleranz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e la capacità di sopportare e attend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E45-6958-4415-BBF4-0EDFB6D34F1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D7506-6D5C-400E-AAFC-11D7856CA1CD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1560" y="475200"/>
            <a:ext cx="41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ettarsi per quello che si 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i positi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340280"/>
            <a:ext cx="1133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oè riconoscere i propri limiti, i propri difett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02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ertamente e con sincerit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stare bene con se stess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79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2120" y="2348280"/>
            <a:ext cx="902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fondamentale dare all’altro la possibilità di aiutarci a superar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eme si può crescere non solo personalmente ma anche recipro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rire al partner una persona serena  capace di affrontare la vi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1720" y="3788280"/>
            <a:ext cx="828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lain" startAt="3"/>
              <a:tabLst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rsi in posizione di “ lavoro su se stessi “ e non accontentar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i positi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7160" y="5444280"/>
            <a:ext cx="56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ggiamento costante di una persona adul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567-3FB1-42DD-AB69-3F4A022C5A3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66F1A-2141-4940-9571-53C623066A6F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6720" y="548280"/>
            <a:ext cx="57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icercare sempre ed approfondire i valor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i positi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1413000"/>
            <a:ext cx="533520" cy="571320"/>
          </a:xfrm>
          <a:prstGeom prst="downArrow">
            <a:avLst>
              <a:gd name="adj1" fmla="val 50000"/>
              <a:gd name="adj2" fmla="val 267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2000" y="2275560"/>
            <a:ext cx="526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sing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e danno senso: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a copp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4210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0440" y="3499560"/>
            <a:ext cx="60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ori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se che valgono. Che fanno migliore la v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93560" y="4796280"/>
            <a:ext cx="64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si una scala di valor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ere cosa è più importante - cosa m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rontarla con quella del partner - fare un proget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DCD-81BF-410C-B528-5B27460B3F4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12ECA-1346-400B-B450-CFE72EC16746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908000" y="907920"/>
          <a:ext cx="5715000" cy="100512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ue progetti devono potersi fondere in un unico progetto comu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a condividere entrambi 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119680" y="2348280"/>
            <a:ext cx="477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l matrimonio è sempre da costru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i positi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0480" y="2955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76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49560" y="3572280"/>
            <a:ext cx="70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sso il matrimonio si scambia per una” tappa raggiunta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avviene un rilassamento:                 non si cresce pi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“se l’ altro mi ha scelto vado bene così”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0280" y="5012280"/>
            <a:ext cx="76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more per l’altro deve stimolare a migliorarsi per offrire all’al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persona armoniosa e gradevo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A6F-CAE7-4EA6-9F7D-79EFA237B71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32058-65C5-40D8-B22B-C5D47B43B850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1640" y="33228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atur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2040" y="1124640"/>
            <a:ext cx="52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iderare la coppia come un rifug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tteggiamento negativo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1360" y="2348640"/>
            <a:ext cx="66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rifugio alternativo alla società che è, a priori, catt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6240" y="3229560"/>
            <a:ext cx="46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ggiamento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lamento della cop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283640"/>
            <a:ext cx="889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è il rischio di collasso se uno dei due si stanca e pretende:       Spazi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s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4508640"/>
            <a:ext cx="228600" cy="799920"/>
          </a:xfrm>
          <a:custGeom>
            <a:avLst/>
            <a:gdLst>
              <a:gd name="textAreaLeft" fmla="*/ 0 w 228600"/>
              <a:gd name="textAreaRight" fmla="*/ 82440 w 22860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1000" y="5733000"/>
            <a:ext cx="54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“tira la carretta” corre il rischio di stancar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Itinerario per fidanzat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F05-A869-43B2-A8FD-ED4F74CAD5C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AFD0D-4129-4F66-B2FA-7150084F49D2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5:57:52Z</dcterms:created>
  <dc:creator>Di Perna</dc:creator>
  <dc:description/>
  <dc:language>en-US</dc:language>
  <cp:lastModifiedBy>Di Perna</cp:lastModifiedBy>
  <dcterms:modified xsi:type="dcterms:W3CDTF">2006-11-11T11:34:46Z</dcterms:modified>
  <cp:revision>9</cp:revision>
  <dc:subject/>
  <dc:title>Diapositiva 1</dc:title>
</cp:coreProperties>
</file>