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applause.wav" ContentType="audio/x-wav"/>
  <Override PartName="/ppt/media/breeze.wav" ContentType="audio/x-wav"/>
  <Override PartName="/ppt/media/voltage.wav" ContentType="audio/x-wav"/>
  <Override PartName="/ppt/media/coin.wav" ContentType="audio/x-wav"/>
  <Override PartName="/ppt/media/arrow.wav" ContentType="audio/x-wav"/>
  <Override PartName="/ppt/media/explode.wav" ContentType="audio/x-wav"/>
  <Override PartName="/ppt/media/type.wav" ContentType="audio/x-wav"/>
  <Override PartName="/ppt/media/push.wav" ContentType="audio/x-wav"/>
  <Override PartName="/ppt/media/drumroll.wav" ContentType="audio/x-wav"/>
  <Override PartName="/ppt/media/camera.wav" ContentType="audio/x-wav"/>
  <Override PartName="/ppt/media/bomb.wav" ContentType="audio/x-wav"/>
  <Override PartName="/ppt/media/wind.wav" ContentType="audio/x-wav"/>
  <Override PartName="/ppt/media/chimes.wav" ContentType="audio/x-wav"/>
  <Override PartName="/ppt/media/suction.wav" ContentType="audio/x-wav"/>
  <Override PartName="/ppt/media/whoosh.wav" ContentType="audio/x-wav"/>
  <Override PartName="/ppt/media/laser.wav" ContentType="audio/x-wav"/>
  <Override PartName="/ppt/media/cashreg.wav" ContentType="audio/x-wav"/>
  <Override PartName="/ppt/media/hammer.wav" ContentType="audio/x-wav"/>
  <Override PartName="/ppt/media/click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D3873-A90F-4356-8A9C-5A1644B15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2ACAD-AAD8-4550-A7CD-BFF7215C0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38508-BAE7-4E2C-806F-9368A8005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C8CBF-13C2-43FC-9C78-296E4FF0C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1FEEA-7A39-4695-B0D7-978440559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24F3D-F198-49BE-8549-3701E80E8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27C6E-5A16-4290-BAD3-F3668A006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51970-0A5B-4257-B54F-EA627B8AB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1AB72-C7DE-4C1F-9201-AB3DDC0F3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40BC7-7460-4DB1-A17B-F99E65DA1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68DA2-472A-427C-9FD3-2AAE3B245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DE047-383F-4CBE-904E-90058A85F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0DA3D-EEAA-4115-AB4F-398913BBC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CDE16-5653-4589-AA66-3AEEDF22B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73C55-ED1C-4C69-A156-7BC757E77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74E96-A73C-40CF-B20A-759205240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F5623-9FA1-4605-809C-D15795472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A8E19-8019-43D7-9583-0ADD3B548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FD7DE-F9EB-4D8E-B6DF-0C57DD9EC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B88A5-61E1-4556-BA24-A39832C57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435DB-6CEF-4AA0-8795-898773B8B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8067B-D16C-451E-A03D-560257CDF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9264B-6BCC-46E1-BE1C-C23DE0164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100F6-1374-428E-AF5A-068E80969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05280" y="4680"/>
            <a:ext cx="17538120" cy="27381240"/>
            <a:chOff x="-8405280" y="4680"/>
            <a:chExt cx="17538120" cy="273812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66ccff"/>
                </a:gs>
                <a:gs pos="100000">
                  <a:srgbClr val="2f5e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05280" y="4680"/>
              <a:ext cx="773094112920" cy="2738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0"/>
                </a:path>
              </a:pathLst>
            </a:custGeom>
            <a:noFill/>
            <a:ln cap="sq" w="1260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D7024-E8D0-4B40-8850-A7F7814119F1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5746C-C3E5-4F8F-9FC1-1134DF815D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93752280" y="1463760"/>
            <a:ext cx="171988200" cy="21589560"/>
            <a:chOff x="-93752280" y="1463760"/>
            <a:chExt cx="171988200" cy="2158956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66ccff"/>
                </a:gs>
                <a:gs pos="100000">
                  <a:srgbClr val="2f5e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93752280" y="1463760"/>
              <a:ext cx="171988200" cy="2158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"/>
                </a:path>
              </a:pathLst>
            </a:custGeom>
            <a:noFill/>
            <a:ln cap="sq" w="1260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83C48-D208-4E31-B034-7AAC50645BB9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129528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46B75-D65B-4157-A836-4B74D87B4E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breeze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oin.wav"/><Relationship Id="rId2" Type="http://schemas.openxmlformats.org/officeDocument/2006/relationships/audio" Target="../media/hammer.wav"/><Relationship Id="rId3" Type="http://schemas.openxmlformats.org/officeDocument/2006/relationships/audio" Target="../media/suction.wav"/><Relationship Id="rId4" Type="http://schemas.openxmlformats.org/officeDocument/2006/relationships/audio" Target="../media/push.wav"/><Relationship Id="rId5" Type="http://schemas.openxmlformats.org/officeDocument/2006/relationships/audio" Target="../media/voltage.wav"/><Relationship Id="rId6" Type="http://schemas.openxmlformats.org/officeDocument/2006/relationships/audio" Target="../media/cashreg.wav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hammer.wav"/><Relationship Id="rId2" Type="http://schemas.openxmlformats.org/officeDocument/2006/relationships/audio" Target="../media/camera.wav"/><Relationship Id="rId3" Type="http://schemas.openxmlformats.org/officeDocument/2006/relationships/audio" Target="../media/chimes.wav"/><Relationship Id="rId4" Type="http://schemas.openxmlformats.org/officeDocument/2006/relationships/audio" Target="../media/bomb.wav"/><Relationship Id="rId5" Type="http://schemas.openxmlformats.org/officeDocument/2006/relationships/audio" Target="../media/coin.wav"/><Relationship Id="rId6" Type="http://schemas.openxmlformats.org/officeDocument/2006/relationships/audio" Target="../media/click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lick.wav"/><Relationship Id="rId10" Type="http://schemas.openxmlformats.org/officeDocument/2006/relationships/audio" Target="../media/whoosh.wav"/><Relationship Id="rId11" Type="http://schemas.openxmlformats.org/officeDocument/2006/relationships/audio" Target="../media/whoosh.wav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breeze.wav"/><Relationship Id="rId3" Type="http://schemas.openxmlformats.org/officeDocument/2006/relationships/audio" Target="../media/explode.wav"/><Relationship Id="rId4" Type="http://schemas.openxmlformats.org/officeDocument/2006/relationships/audio" Target="../media/explode.wav"/><Relationship Id="rId5" Type="http://schemas.openxmlformats.org/officeDocument/2006/relationships/audio" Target="../media/breeze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lick.wav"/><Relationship Id="rId9" Type="http://schemas.openxmlformats.org/officeDocument/2006/relationships/audio" Target="../media/coin.wav"/><Relationship Id="rId10" Type="http://schemas.openxmlformats.org/officeDocument/2006/relationships/audio" Target="../media/laser.wav"/><Relationship Id="rId11" Type="http://schemas.openxmlformats.org/officeDocument/2006/relationships/audio" Target="../media/hammer.wav"/><Relationship Id="rId1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audio" Target="../media/applause.wav"/><Relationship Id="rId3" Type="http://schemas.openxmlformats.org/officeDocument/2006/relationships/audio" Target="../media/click.wav"/><Relationship Id="rId4" Type="http://schemas.openxmlformats.org/officeDocument/2006/relationships/audio" Target="../media/voltage.wav"/><Relationship Id="rId5" Type="http://schemas.openxmlformats.org/officeDocument/2006/relationships/audio" Target="../media/voltage.wav"/><Relationship Id="rId6" Type="http://schemas.openxmlformats.org/officeDocument/2006/relationships/audio" Target="../media/suction.wav"/><Relationship Id="rId7" Type="http://schemas.openxmlformats.org/officeDocument/2006/relationships/audio" Target="../media/push.wav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voltage.wav"/><Relationship Id="rId2" Type="http://schemas.openxmlformats.org/officeDocument/2006/relationships/audio" Target="../media/breeze.wav"/><Relationship Id="rId3" Type="http://schemas.openxmlformats.org/officeDocument/2006/relationships/audio" Target="../media/applause.wav"/><Relationship Id="rId4" Type="http://schemas.openxmlformats.org/officeDocument/2006/relationships/audio" Target="../media/applause.wav"/><Relationship Id="rId5" Type="http://schemas.openxmlformats.org/officeDocument/2006/relationships/audio" Target="../media/breeze.wav"/><Relationship Id="rId6" Type="http://schemas.openxmlformats.org/officeDocument/2006/relationships/audio" Target="../media/arrow.wav"/><Relationship Id="rId7" Type="http://schemas.openxmlformats.org/officeDocument/2006/relationships/audio" Target="../media/hammer.wav"/><Relationship Id="rId8" Type="http://schemas.openxmlformats.org/officeDocument/2006/relationships/audio" Target="../media/push.wav"/><Relationship Id="rId9" Type="http://schemas.openxmlformats.org/officeDocument/2006/relationships/audio" Target="../media/coin.wav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voltage.wav"/><Relationship Id="rId3" Type="http://schemas.openxmlformats.org/officeDocument/2006/relationships/audio" Target="../media/breeze.wav"/><Relationship Id="rId4" Type="http://schemas.openxmlformats.org/officeDocument/2006/relationships/audio" Target="../media/drumroll.wav"/><Relationship Id="rId5" Type="http://schemas.openxmlformats.org/officeDocument/2006/relationships/audio" Target="../media/cashreg.wav"/><Relationship Id="rId6" Type="http://schemas.openxmlformats.org/officeDocument/2006/relationships/audio" Target="../media/click.wav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suction.wav"/><Relationship Id="rId2" Type="http://schemas.openxmlformats.org/officeDocument/2006/relationships/audio" Target="../media/cashreg.wav"/><Relationship Id="rId3" Type="http://schemas.openxmlformats.org/officeDocument/2006/relationships/audio" Target="../media/type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laser.wav"/><Relationship Id="rId5" Type="http://schemas.openxmlformats.org/officeDocument/2006/relationships/audio" Target="../media/arrow.wav"/><Relationship Id="rId6" Type="http://schemas.openxmlformats.org/officeDocument/2006/relationships/audio" Target="../media/hammer.wav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breeze.wav"/><Relationship Id="rId2" Type="http://schemas.openxmlformats.org/officeDocument/2006/relationships/audio" Target="../media/coin.wav"/><Relationship Id="rId3" Type="http://schemas.openxmlformats.org/officeDocument/2006/relationships/audio" Target="../media/wind.wav"/><Relationship Id="rId4" Type="http://schemas.openxmlformats.org/officeDocument/2006/relationships/audio" Target="../media/drumroll.wav"/><Relationship Id="rId5" Type="http://schemas.openxmlformats.org/officeDocument/2006/relationships/audio" Target="../media/click.wav"/><Relationship Id="rId6" Type="http://schemas.openxmlformats.org/officeDocument/2006/relationships/audio" Target="../media/push.wav"/><Relationship Id="rId7" Type="http://schemas.openxmlformats.org/officeDocument/2006/relationships/audio" Target="../media/drumroll.wav"/><Relationship Id="rId8" Type="http://schemas.openxmlformats.org/officeDocument/2006/relationships/audio" Target="../media/wind.wav"/><Relationship Id="rId9" Type="http://schemas.openxmlformats.org/officeDocument/2006/relationships/audio" Target="../media/breeze.wav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55640" y="1052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unità Parrocchiale di Carpino: San Nicola di Mira – San Cirillo d’Alessandria</a:t>
            </a:r>
            <a:br>
              <a:rPr sz="2400"/>
            </a:br>
            <a:br>
              <a:rPr sz="24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INERARIO DI FIDANZATI IN PREPARAZIONE AL SACRAMENTO DEL MATRIMON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258920" y="4005360"/>
            <a:ext cx="5410080" cy="1038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ALL’INNAMORAMENT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LL’AM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GRAZIANO DI PERNA: Itinerario per fidanzat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13596-48D2-48B3-B234-A37E64E4C28E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9C86F48D-32C7-4CE5-8E24-65817B48B854}" type="datetime1">
              <a:rPr lang="en-US"/>
              <a:t>07/30/26</a:t>
            </a:fld>
          </a:p>
        </p:txBody>
      </p:sp>
    </p:spTree>
  </p:cSld>
  <p:transition spd="slow">
    <p:split dir="out" orient="vert"/>
    <p:sndAc>
      <p:stSnd>
        <p:snd r:embed="rId1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8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00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00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8" dur="1" fill="hold"/>
                                  <p:tgtEl>
                                    <p:spTgt spid="8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00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684360" y="627480"/>
            <a:ext cx="7848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2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Ti amo perché sei proprio tu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La tua persona mi affascina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i amo perché sei come sei, non un uomo o una donna qualsias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3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Ti amo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In una prospettiva di continuità, di impegno di durata, per semp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4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Ti amo per te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Gratis. Non per avere qualcosa in cambio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842920" y="2780280"/>
            <a:ext cx="232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more di coppia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74640" y="3427920"/>
            <a:ext cx="700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è un cammino che ci impegna [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non qualcosa che accade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]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75000" y="4148640"/>
            <a:ext cx="778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È qualcosa che bisogna apprendere con atteggiamento di umiltà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619280" y="4875840"/>
            <a:ext cx="6265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                                           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con seriet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 Narrow"/>
                <a:ea typeface="Times New Roman"/>
              </a:rPr>
              <a:t>Non può essere mai dato per scontato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                      impeg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va alimentato:                                    gio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156360" y="4724280"/>
            <a:ext cx="228600" cy="1257480"/>
          </a:xfrm>
          <a:custGeom>
            <a:avLst/>
            <a:gdLst>
              <a:gd name="textAreaLeft" fmla="*/ 0 w 228600"/>
              <a:gd name="textAreaRight" fmla="*/ 82440 w 228600"/>
              <a:gd name="textAreaTop" fmla="*/ 32760 h 1257480"/>
              <a:gd name="textAreaBottom" fmla="*/ 1224720 h 12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AZIANO DI PERNA: Itinerario per fidanzati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37E68-63BD-42E5-AF4D-84AE58905124}" type="slidenum">
              <a:t>1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CE75E2-B737-47FD-8DFB-8516B518F238}" type="datetime1">
              <a:rPr lang="en-US"/>
              <a:t>07/30/26</a:t>
            </a:fld>
          </a:p>
        </p:txBody>
      </p:sp>
    </p:spTree>
  </p:cSld>
  <p:transition spd="med">
    <p:strips dir="lu"/>
    <p:sndAc>
      <p:stSnd>
        <p:snd r:embed="rId1" name="coin.wav"/>
      </p:stSnd>
    </p:sndAc>
  </p:transition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1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8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0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00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pu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7" dur="8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8" dur="8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9" dur="8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00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95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00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5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00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4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00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18" dur="1" fill="hold"/>
                                  <p:tgtEl>
                                    <p:spTgt spid="15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00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547640" y="2492280"/>
            <a:ext cx="58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000000"/>
                </a:solidFill>
                <a:latin typeface="Arial"/>
              </a:rPr>
              <a:t>F I N 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AZIANO DI PERNA: Itinerario per fidanzati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4B4C8-0BC1-4718-AF6C-F5751DCD29C4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38B90B-2CDF-42BF-9BA4-D2A9A4D597A4}" type="datetime1">
              <a:rPr lang="en-US"/>
              <a:t>07/30/26</a:t>
            </a:fld>
          </a:p>
        </p:txBody>
      </p:sp>
    </p:spTree>
  </p:cSld>
  <p:transition spd="med">
    <p:split dir="out" orient="vert"/>
    <p:sndAc>
      <p:stSnd>
        <p:snd r:embed="rId1" name="chimes.wav"/>
      </p:stSnd>
    </p:sndAc>
  </p:transition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6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30" dur="1" fill="hold"/>
                                  <p:tgtEl>
                                    <p:spTgt spid="15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00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905480" y="259560"/>
            <a:ext cx="5045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ALL’ INNAMORAMENTO ALL’ AMOR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99760" y="1043640"/>
            <a:ext cx="682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Obiettivo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endersi conto del percorso che la coppia de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iere per  essere matura per il matrimoni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1987920"/>
            <a:ext cx="8353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393840"/>
                <a:tab algn="ctr" pos="2916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olersi bene è un cammino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[una situazione in evoluzione]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93840"/>
                <a:tab algn="ctr" pos="2916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393840"/>
                <a:tab algn="ctr" pos="2916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È importante imparare a guidare la vs. coppia verso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la meta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859760" y="3229560"/>
            <a:ext cx="542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La nostra affettività nel rapporto di coppia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635280" y="407664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188360" y="3859920"/>
            <a:ext cx="238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INFATUAZION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4500720" y="3860640"/>
          <a:ext cx="3527280" cy="395280"/>
        </p:xfrm>
        <a:graphic>
          <a:graphicData uri="http://schemas.openxmlformats.org/drawingml/2006/table">
            <a:tbl>
              <a:tblPr/>
              <a:tblGrid>
                <a:gridCol w="352728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393840"/>
                          <a:tab algn="ctr" pos="29163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egata alla fantasia amoros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3635280" y="508464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117080" y="4867920"/>
            <a:ext cx="251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IDEALIZZAZION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4067280" y="4508640"/>
          <a:ext cx="4752720" cy="1614240"/>
        </p:xfrm>
        <a:graphic>
          <a:graphicData uri="http://schemas.openxmlformats.org/drawingml/2006/table">
            <a:tbl>
              <a:tblPr/>
              <a:tblGrid>
                <a:gridCol w="4752720"/>
              </a:tblGrid>
              <a:tr h="16185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393840"/>
                          <a:tab algn="ctr" pos="29163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iezione delle proprie aspettative sull’ altro senza voler guardare la realtà dell’altro!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[perché più comodo credere che sia come noi lo vogliamo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AZIANO DI PERNA: Itinerario per fidanzati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E25C5-318D-4978-A8F5-6471AAFF63B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24D6F5-F62D-4FD1-93AB-3318AAD8BF84}" type="datetime1">
              <a:rPr lang="en-US"/>
              <a:t>07/30/26</a:t>
            </a:fld>
          </a:p>
        </p:txBody>
      </p:sp>
    </p:spTree>
  </p:cSld>
  <p:transition spd="med">
    <p:randomBar dir="horz"/>
    <p:sndAc>
      <p:stSnd>
        <p:snd r:embed="rId1" name="hammer.wav"/>
      </p:stSnd>
    </p:sndAc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4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4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0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00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00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4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4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00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00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00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00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4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4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00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00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8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00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25" dur="1" fill="hold"/>
                                  <p:tgtEl>
                                    <p:spTgt spid="9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00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3492360" y="7650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55640" y="548280"/>
            <a:ext cx="261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INNAMORAMENT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4140360" y="404640"/>
          <a:ext cx="4454280" cy="700200"/>
        </p:xfrm>
        <a:graphic>
          <a:graphicData uri="http://schemas.openxmlformats.org/drawingml/2006/table">
            <a:tbl>
              <a:tblPr/>
              <a:tblGrid>
                <a:gridCol w="445428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393840"/>
                          <a:tab algn="ctr" pos="29163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a qualche elemento di sentimento vero. Momento magico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3" name=""/>
          <p:cNvSpPr/>
          <p:nvPr/>
        </p:nvSpPr>
        <p:spPr>
          <a:xfrm>
            <a:off x="1763640" y="981000"/>
            <a:ext cx="533520" cy="571680"/>
          </a:xfrm>
          <a:prstGeom prst="downArrow">
            <a:avLst>
              <a:gd name="adj1" fmla="val 50000"/>
              <a:gd name="adj2" fmla="val 2678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970200" y="1772280"/>
            <a:ext cx="196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ratteristiche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55640" y="4581360"/>
            <a:ext cx="533520" cy="571680"/>
          </a:xfrm>
          <a:prstGeom prst="downArrow">
            <a:avLst>
              <a:gd name="adj1" fmla="val 50000"/>
              <a:gd name="adj2" fmla="val 2678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972440" y="2122920"/>
            <a:ext cx="8055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lvl="3" marL="13716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393840"/>
                <a:tab algn="l" pos="1828800"/>
                <a:tab algn="ctr" pos="2916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sce indipendentemente dalla volontà complice anc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393840"/>
                <a:tab algn="l" pos="1828800"/>
                <a:tab algn="ctr" pos="2916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’attrazione fisic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393840"/>
                <a:tab algn="l" pos="1828800"/>
                <a:tab algn="ctr" pos="2916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involgimento dell’emotività e della sensibilità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924360" y="3357720"/>
            <a:ext cx="295200" cy="1366560"/>
          </a:xfrm>
          <a:custGeom>
            <a:avLst/>
            <a:gdLst>
              <a:gd name="textAreaLeft" fmla="*/ 0 w 295200"/>
              <a:gd name="textAreaRight" fmla="*/ 106560 w 295200"/>
              <a:gd name="textAreaTop" fmla="*/ 35640 h 1366560"/>
              <a:gd name="textAreaBottom" fmla="*/ 1330920 h 1366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332000" y="4581360"/>
            <a:ext cx="533160" cy="571680"/>
          </a:xfrm>
          <a:prstGeom prst="downArrow">
            <a:avLst>
              <a:gd name="adj1" fmla="val 50000"/>
              <a:gd name="adj2" fmla="val 2680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25290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979280" y="3268440"/>
            <a:ext cx="1783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393840"/>
                <a:tab algn="l" pos="1828800"/>
                <a:tab algn="ctr" pos="2916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ntusiasm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93840"/>
                <a:tab algn="l" pos="1828800"/>
                <a:tab algn="ctr" pos="2916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75680" y="3572280"/>
            <a:ext cx="6656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1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393840"/>
                <a:tab algn="l" pos="1828800"/>
                <a:tab algn="ctr" pos="2916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ncertezza.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rimo tentativo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incomplet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di Am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393840"/>
                <a:tab algn="l" pos="1828800"/>
                <a:tab algn="ctr" pos="2916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stintività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393840"/>
                <a:tab algn="l" pos="1828800"/>
                <a:tab algn="ctr" pos="2916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iscontinuità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539640" y="5229360"/>
          <a:ext cx="5110200" cy="1004760"/>
        </p:xfrm>
        <a:graphic>
          <a:graphicData uri="http://schemas.openxmlformats.org/drawingml/2006/table">
            <a:tbl>
              <a:tblPr/>
              <a:tblGrid>
                <a:gridCol w="5110200"/>
              </a:tblGrid>
              <a:tr h="1008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393840"/>
                          <a:tab algn="ctr" pos="29163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Non coinvolge la ragione e la volontà che costituisco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393840"/>
                          <a:tab algn="ctr" pos="29163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la dimensione più profonda dell’ uomo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AZIANO DI PERNA: Itinerario per fidanzati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D06B7-79AF-4080-B441-879D318910F4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E6C893-45D7-4F31-BA01-83ACC7548FC1}" type="datetime1">
              <a:rPr lang="en-US"/>
              <a:t>07/30/26</a:t>
            </a:fld>
          </a:p>
        </p:txBody>
      </p:sp>
    </p:spTree>
  </p:cSld>
  <p:transition spd="med">
    <p:blinds dir="vert"/>
    <p:sndAc>
      <p:stSnd>
        <p:snd r:embed="rId1" name="camera.wav"/>
      </p:stSnd>
    </p:sndAc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0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00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00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00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00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00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00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9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00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0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0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00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4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4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00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3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0099"/>
                                </p:to>
                              </p:animClr>
                              <p:animClr clrSpc="rgb">
                                <p:cBhvr>
                                  <p:cTn id="2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8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00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36" dur="1" fill="hold"/>
                                  <p:tgtEl>
                                    <p:spTgt spid="11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00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83040" y="475200"/>
            <a:ext cx="8566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393840"/>
                <a:tab algn="ctr" pos="2916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cune persone non sanno superare il momento dell’innamoramen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393840"/>
                <a:tab algn="ctr" pos="2916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n sapendo andare oltre, passano da una esperienza all’altra, convi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93840"/>
                <a:tab algn="ctr" pos="2916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 essere sfortunate in amor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340000" y="206064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26920" y="1843920"/>
            <a:ext cx="1284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MORE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911320" y="1843560"/>
            <a:ext cx="5610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393840"/>
                <a:tab algn="l" pos="1955880"/>
                <a:tab algn="ctr" pos="2916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involge tutta la persona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[in tutte le dimensioni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393840"/>
                <a:tab algn="l" pos="1955880"/>
                <a:tab algn="ctr" pos="2916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ologica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393840"/>
                <a:tab algn="l" pos="1955880"/>
                <a:tab algn="ctr" pos="2916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sico-affetti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393840"/>
                <a:tab algn="l" pos="1955880"/>
                <a:tab algn="ctr" pos="2916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iritu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93480" y="3788280"/>
            <a:ext cx="288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ome nasce l’ amore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198960" y="4192560"/>
            <a:ext cx="54309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>
              <a:lnSpc>
                <a:spcPct val="140000"/>
              </a:lnSpc>
              <a:buClr>
                <a:srgbClr val="000000"/>
              </a:buClr>
              <a:buFont typeface="Arial"/>
              <a:buAutoNum type="arabicParenR"/>
              <a:tabLst>
                <a:tab algn="l" pos="393840"/>
                <a:tab algn="l" pos="1917720"/>
                <a:tab algn="l" pos="2031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trattiva fisic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buClr>
                <a:srgbClr val="000000"/>
              </a:buClr>
              <a:buFont typeface="Arial"/>
              <a:buAutoNum type="arabicParenR"/>
              <a:tabLst>
                <a:tab algn="l" pos="393840"/>
                <a:tab algn="l" pos="1917720"/>
                <a:tab algn="l" pos="2031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inua con il cuor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tabLst>
                <a:tab algn="l" pos="0"/>
                <a:tab algn="l" pos="393840"/>
                <a:tab algn="l" pos="1917720"/>
                <a:tab algn="l" pos="2031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[affettività in tutte le sue espressioni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buClr>
                <a:srgbClr val="000000"/>
              </a:buClr>
              <a:buFont typeface="Arial"/>
              <a:buAutoNum type="arabicParenR" startAt="3"/>
              <a:tabLst>
                <a:tab algn="l" pos="393840"/>
                <a:tab algn="l" pos="1917720"/>
                <a:tab algn="l" pos="2031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ura e diventa stabile con la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VOLONTA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AZIANO DI PERNA: Itinerario per fidanzati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B07C9-27DB-45FE-8BD8-651AEB5C8B3F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0FD1CD-716E-489B-8437-51488188315F}" type="datetime1">
              <a:rPr lang="en-US"/>
              <a:t>07/30/26</a:t>
            </a:fld>
          </a:p>
        </p:txBody>
      </p:sp>
    </p:spTree>
  </p:cSld>
  <p:transition spd="med">
    <p:dissolve/>
    <p:sndAc>
      <p:stSnd>
        <p:snd r:embed="rId1" name="applause.wav"/>
      </p:stSnd>
    </p:sndAc>
  </p:transition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00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00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1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4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4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7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00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00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pu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1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4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4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00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96" dur="1" fill="hold"/>
                                  <p:tgtEl>
                                    <p:spTgt spid="118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00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9" name=""/>
          <p:cNvGraphicFramePr/>
          <p:nvPr/>
        </p:nvGraphicFramePr>
        <p:xfrm>
          <a:off x="1332000" y="333360"/>
          <a:ext cx="6553080" cy="1004760"/>
        </p:xfrm>
        <a:graphic>
          <a:graphicData uri="http://schemas.openxmlformats.org/drawingml/2006/table">
            <a:tbl>
              <a:tblPr/>
              <a:tblGrid>
                <a:gridCol w="6553080"/>
              </a:tblGrid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393840"/>
                          <a:tab algn="ctr" pos="29163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’Innamoramento non diventa amore se non diventa anche una </a:t>
                      </a:r>
                      <a:r>
                        <a:rPr b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scelta ragionata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393840"/>
                          <a:tab algn="ctr" pos="29163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e non si radica nella persona rimane instabile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0" name=""/>
          <p:cNvSpPr/>
          <p:nvPr/>
        </p:nvSpPr>
        <p:spPr>
          <a:xfrm>
            <a:off x="4067280" y="1413000"/>
            <a:ext cx="533160" cy="571320"/>
          </a:xfrm>
          <a:prstGeom prst="downArrow">
            <a:avLst>
              <a:gd name="adj1" fmla="val 50000"/>
              <a:gd name="adj2" fmla="val 2678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201840" y="2132640"/>
            <a:ext cx="244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mare è una scelt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284720" y="2708280"/>
            <a:ext cx="228600" cy="342720"/>
          </a:xfrm>
          <a:prstGeom prst="downArrow">
            <a:avLst>
              <a:gd name="adj1" fmla="val 50000"/>
              <a:gd name="adj2" fmla="val 3748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986920" y="3356640"/>
            <a:ext cx="278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393840"/>
                <a:tab algn="ctr" pos="2916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 cui scaturisce il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NO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99400" y="3932640"/>
            <a:ext cx="7910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Noi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Non somma di due persone ma progressiva integrazione di d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sonalità, di due mondi che vogliono fondersi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323000" y="4723560"/>
            <a:ext cx="656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n è un processo automatico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[come l’ innamoramento]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258920" y="5157720"/>
            <a:ext cx="62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dipende dalla volontà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amo noi a guidare questa scelta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[intesa come crescita]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ella copp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AZIANO DI PERNA: Itinerario per fidanzati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ED4DD-DBE7-45E3-9652-731B19242F06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6913F2-52C4-4D9F-B344-707E036EA08E}" type="datetime1">
              <a:rPr lang="en-US"/>
              <a:t>07/30/26</a:t>
            </a:fld>
          </a:p>
        </p:txBody>
      </p:sp>
    </p:spTree>
  </p:cSld>
  <p:transition spd="med">
    <p:wheel spokes="1"/>
    <p:sndAc>
      <p:stSnd>
        <p:snd r:embed="rId1" name="voltage.wav"/>
      </p:stSnd>
    </p:sndAc>
  </p:transition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03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1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00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0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00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6" dur="8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8" dur="8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00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34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00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00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pu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1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0" dur="4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4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00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9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6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00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63" dur="1" fill="hold"/>
                                  <p:tgtEl>
                                    <p:spTgt spid="12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00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2118960" y="259560"/>
            <a:ext cx="438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rà una crescita che non finirà mai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924360" y="692280"/>
            <a:ext cx="576360" cy="649080"/>
          </a:xfrm>
          <a:prstGeom prst="downArrow">
            <a:avLst>
              <a:gd name="adj1" fmla="val 50000"/>
              <a:gd name="adj2" fmla="val 2815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124000" y="1557360"/>
          <a:ext cx="4376880" cy="395280"/>
        </p:xfrm>
        <a:graphic>
          <a:graphicData uri="http://schemas.openxmlformats.org/drawingml/2006/table">
            <a:tbl>
              <a:tblPr/>
              <a:tblGrid>
                <a:gridCol w="43768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393840"/>
                          <a:tab algn="ctr" pos="29163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È la </a:t>
                      </a:r>
                      <a:r>
                        <a:rPr b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dinamic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della vita di copp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0" name=""/>
          <p:cNvSpPr/>
          <p:nvPr/>
        </p:nvSpPr>
        <p:spPr>
          <a:xfrm>
            <a:off x="900000" y="2275560"/>
            <a:ext cx="7201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393840"/>
                <a:tab algn="l" pos="1104840"/>
                <a:tab algn="ctr" pos="2916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za questa dinamica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[crescita]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393840"/>
                <a:tab algn="l" pos="1104840"/>
                <a:tab algn="ctr" pos="2916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 coppia si sclerotizz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393840"/>
                <a:tab algn="l" pos="1104840"/>
                <a:tab algn="ctr" pos="2916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venta ripetiti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393840"/>
                <a:tab algn="l" pos="1104840"/>
                <a:tab algn="ctr" pos="2916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de il senso di s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964440" y="3643920"/>
            <a:ext cx="719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tteggiamenti che ostacolano la formazione della coppi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95280" y="4067640"/>
            <a:ext cx="84963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393840"/>
                <a:tab algn="l" pos="622440"/>
                <a:tab algn="ctr" pos="2916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Oscurarsi a vicenda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393840"/>
                <a:tab algn="l" pos="622440"/>
                <a:tab algn="ctr" pos="2916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ando ognuno tende ad imporre la sua personalità all’altro senz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393840"/>
                <a:tab algn="l" pos="622440"/>
                <a:tab algn="ctr" pos="2916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’integrazione che vada bene per entramb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393840"/>
                <a:tab algn="l" pos="622440"/>
                <a:tab algn="ctr" pos="2916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ppia: no alla rinuncia di se stess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393840"/>
                <a:tab algn="l" pos="622440"/>
                <a:tab algn="ctr" pos="2916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ppia: impegno per armonizzare la personalità dei du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AZIANO DI PERNA: Itinerario per fidanzati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0F5DC-FE0C-42CC-B853-D83B59268DEA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E1A117-B3FE-4534-98F4-7E453876B48D}" type="datetime1">
              <a:rPr lang="en-US"/>
              <a:t>07/30/26</a:t>
            </a:fld>
          </a:p>
        </p:txBody>
      </p:sp>
    </p:spTree>
  </p:cSld>
  <p:transition spd="med">
    <p:wheel spokes="8"/>
    <p:sndAc>
      <p:stSnd>
        <p:snd r:embed="rId1" name="chimes.wav"/>
      </p:stSnd>
    </p:sndAc>
  </p:transition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0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00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8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8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8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00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91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00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0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0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00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43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1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7" dur="4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4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00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14" dur="1" fill="hold"/>
                                  <p:tgtEl>
                                    <p:spTgt spid="13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00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383400" y="475200"/>
            <a:ext cx="104360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2"/>
              <a:tabLst>
                <a:tab algn="l" pos="68580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Idealizzare l’altro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718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68580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dendo in lui ciò che si vorrebbe che fosse anziché ciò che realmen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68580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gli è.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[Avviene durante l’innamoramento occorre superarlo]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68580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sere realisti, anche negli aspetti meno gradevol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"/>
              <a:tabLst>
                <a:tab algn="l" pos="68580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ettarsi con pregi e difetti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17160" y="2348280"/>
            <a:ext cx="7619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3"/>
              <a:tabLst>
                <a:tab algn="l" pos="22860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ppiattirsi a vicend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"/>
              <a:tabLst>
                <a:tab algn="l" pos="22860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ndersi uguali in tutto: vestiti, atteggiamenti, attività, interess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16640" y="3427920"/>
            <a:ext cx="6007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4"/>
              <a:tabLst>
                <a:tab algn="l" pos="67788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Isolarsi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"/>
              <a:tabLst>
                <a:tab algn="l" pos="67788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dere di essere sufficienti alla nostra vi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67788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L’amore è un sentimento di apertur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]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68360" y="4221000"/>
            <a:ext cx="8101080" cy="22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39640" bIns="539640" anchor="ctr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5"/>
              <a:tabLst>
                <a:tab algn="l" pos="67788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Essere competitivi all’interno della coppia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"/>
              <a:tabLst>
                <a:tab algn="l" pos="67788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valere sull’altro porta ad oscurarsi a vicend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67788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AZIANO DI PERNA: Itinerario per fidanzati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BCFA3-D88C-476E-9A78-0EDC873A4881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43D6FD-4923-4D63-BB4D-E1775BB53D6F}" type="datetime1">
              <a:rPr lang="en-US"/>
              <a:t>07/30/26</a:t>
            </a:fld>
          </a:p>
        </p:txBody>
      </p:sp>
    </p:spTree>
  </p:cSld>
  <p:transition spd="med">
    <p:blinds dir="horz"/>
    <p:sndAc>
      <p:stSnd>
        <p:snd r:embed="rId1" name="suction.wav"/>
      </p:stSnd>
    </p:sndAc>
  </p:transition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1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2" dur="4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4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00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8" dur="8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9" dur="8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0" dur="8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00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00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53" dur="1" fill="hold"/>
                                  <p:tgtEl>
                                    <p:spTgt spid="13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00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181160" y="691200"/>
            <a:ext cx="646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tteggiamento di aiuto alla formazione della coppi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11280" y="1483200"/>
            <a:ext cx="7993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22860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ccettazione dell’altro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SzPct val="145000"/>
              <a:buFont typeface="Wingdings" charset="2"/>
              <a:buChar char=""/>
              <a:tabLst>
                <a:tab algn="l" pos="22860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ettazione come persona con le sue caratteristiche e le sue diversità non come qualcosa da usare per proprio beneficio.  [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trument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]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77520" y="3211920"/>
            <a:ext cx="7732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2"/>
              <a:tabLst>
                <a:tab algn="l" pos="22860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ccettare il confront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SzPct val="145000"/>
              <a:buFont typeface="Wingdings" charset="2"/>
              <a:buChar char=""/>
              <a:tabLst>
                <a:tab algn="l" pos="22860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 l’altro valorizzando le sue diversità. [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regi e difett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]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20080" y="4364640"/>
            <a:ext cx="554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3"/>
              <a:tabLst>
                <a:tab algn="l" pos="22860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Manifestarsi per quello che si è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SzPct val="145000"/>
              <a:buFont typeface="Wingdings" charset="2"/>
              <a:buChar char=""/>
              <a:tabLst>
                <a:tab algn="l" pos="22860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za maschere [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pertura sincer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]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970200" y="5515560"/>
            <a:ext cx="357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Essere in collaborazion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AZIANO DI PERNA: Itinerario per fidanzati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066E0-2A09-4A26-A814-D761FF8DB910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0DC887-C3AB-4BEB-837B-F1DD5BE7C3DF}" type="datetime1">
              <a:rPr lang="en-US"/>
              <a:t>07/30/26</a:t>
            </a:fld>
          </a:p>
        </p:txBody>
      </p:sp>
    </p:spTree>
  </p:cSld>
  <p:transition spd="med">
    <p:wedge/>
    <p:sndAc>
      <p:stSnd>
        <p:snd r:embed="rId1" name="cashreg.wav"/>
      </p:stSnd>
    </p:sndAc>
  </p:transition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60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5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00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8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00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1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8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00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0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00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94" dur="1" fill="hold"/>
                                  <p:tgtEl>
                                    <p:spTgt spid="14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00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2335680" y="259560"/>
            <a:ext cx="397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Grado di coesione di una coppia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067280" y="692280"/>
            <a:ext cx="431640" cy="576000"/>
          </a:xfrm>
          <a:prstGeom prst="downArrow">
            <a:avLst>
              <a:gd name="adj1" fmla="val 50000"/>
              <a:gd name="adj2" fmla="val 3336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684360" y="1413000"/>
          <a:ext cx="8064360" cy="699840"/>
        </p:xfrm>
        <a:graphic>
          <a:graphicData uri="http://schemas.openxmlformats.org/drawingml/2006/table">
            <a:tbl>
              <a:tblPr/>
              <a:tblGrid>
                <a:gridCol w="80643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3875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a capacità di mettere in comune tutti gli aspetti della vita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3875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a compartecipazione all’essere dell’altro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5" name=""/>
          <p:cNvSpPr/>
          <p:nvPr/>
        </p:nvSpPr>
        <p:spPr>
          <a:xfrm>
            <a:off x="684360" y="2419920"/>
            <a:ext cx="8137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i sono coppie che hanno un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lto grad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i coesione [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legam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]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i sono coppie che pur vivendo insieme da molto tempo, sembrano                                           continuare a vivere la propria vit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24000" y="2276640"/>
            <a:ext cx="215640" cy="1512720"/>
          </a:xfrm>
          <a:custGeom>
            <a:avLst/>
            <a:gdLst>
              <a:gd name="textAreaLeft" fmla="*/ 137880 w 215640"/>
              <a:gd name="textAreaRight" fmla="*/ 216000 w 215640"/>
              <a:gd name="textAreaTop" fmla="*/ 39240 h 1512720"/>
              <a:gd name="textAreaBottom" fmla="*/ 1473480 h 151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88080" y="4075560"/>
            <a:ext cx="8387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l grado di coesione di una coppia dipende la su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BILITA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 la su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iena realizzazion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251360" y="5012280"/>
            <a:ext cx="666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aratteristiche di un rapporto d’amor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[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 alcune fras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]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81080" y="5515560"/>
            <a:ext cx="8974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Sono felice che tu ci sia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Il tuo esistere è la cosa più  importante per me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 cosa che da sola mi da gioi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AZIANO DI PERNA: Itinerario per fidanzati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1FE0E-F221-4368-8F8A-495962CF568A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4D1C33-606D-4C76-B9E3-F520A56DC8A8}" type="datetime1">
              <a:rPr lang="en-US"/>
              <a:t>07/30/26</a:t>
            </a:fld>
          </a:p>
        </p:txBody>
      </p:sp>
    </p:spTree>
  </p:cSld>
  <p:transition spd="med">
    <p:strips dir="ru"/>
    <p:sndAc>
      <p:stSnd>
        <p:snd r:embed="rId1" name="breeze.wav"/>
      </p:stSnd>
    </p:sndAc>
  </p:transition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1" dur="8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2" dur="8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3" dur="8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1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9" dur="4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4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00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1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4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4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00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8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00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pu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00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00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00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8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00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66" dur="1" fill="hold"/>
                                  <p:tgtEl>
                                    <p:spTgt spid="14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00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5T14:46:47Z</dcterms:created>
  <dc:creator>Di Perna</dc:creator>
  <dc:description/>
  <dc:language>en-US</dc:language>
  <cp:lastModifiedBy>Di Perna</cp:lastModifiedBy>
  <dcterms:modified xsi:type="dcterms:W3CDTF">2006-10-28T18:33:10Z</dcterms:modified>
  <cp:revision>9</cp:revision>
  <dc:subject/>
  <dc:title>Comunità Parrocchiale di Carpino: San Nicola di Mira – San Cirillo d’Alessandria  ITINERARIO DI FIDANZATI IN PREPARAZIONE AL SACRAMENTO DEL MATRIMONIO</dc:title>
</cp:coreProperties>
</file>