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arrow.wav" ContentType="audio/x-wav"/>
  <Override PartName="/ppt/media/coin.wav" ContentType="audio/x-wav"/>
  <Override PartName="/ppt/media/explode.wav" ContentType="audio/x-wav"/>
  <Override PartName="/ppt/media/voltage.wav" ContentType="audio/x-wav"/>
  <Override PartName="/ppt/media/whoosh.wav" ContentType="audio/x-wav"/>
  <Override PartName="/ppt/media/camera.wav" ContentType="audio/x-wav"/>
  <Override PartName="/ppt/media/wind.wav" ContentType="audio/x-wav"/>
  <Override PartName="/ppt/media/chimes.wav" ContentType="audio/x-wav"/>
  <Override PartName="/ppt/media/suction.wav" ContentType="audio/x-wav"/>
  <Override PartName="/ppt/media/breeze.wav" ContentType="audio/x-wav"/>
  <Override PartName="/ppt/media/applause.wav" ContentType="audio/x-wav"/>
  <Override PartName="/ppt/media/push.wav" ContentType="audio/x-wav"/>
  <Override PartName="/ppt/media/click.wav" ContentType="audio/x-wav"/>
  <Override PartName="/ppt/media/hammer.wav" ContentType="audio/x-wav"/>
  <Override PartName="/ppt/media/cashreg.wav" ContentType="audio/x-wav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4DA20-CCFD-4AB1-8E5D-3AED95AD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DDBA7-88F5-47F3-BB58-193F3FDE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EA5D4-C8C2-45B7-A60F-651415AB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59873-1C00-4674-9FB8-A5BB71FD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A4B9-D02D-4D3E-8BF4-6012A99E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8C02-E311-42E2-A60A-81EE40B6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DEDE-3210-409B-BD51-1CC4F080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A402-F835-46D5-8250-86120C31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492D-6687-4ABA-8428-BADECEC3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13E1-DF1D-4AD4-A14E-6278C3B6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6FC7-0A36-410A-9A87-5EFE7A1E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BB944-2AFD-4831-8DC1-3CF55860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6EF6-AC32-4E0B-88DE-D352D1B5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3118-45C1-43AC-A011-F0B13B0F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96A8-188F-40DD-81F2-1A8C4734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9A89-8548-462B-9B9B-1CFE7FF3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915B-63B5-4A16-B8CE-F2F38B28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03F5D-E1ED-47F1-8EE3-4F90A11D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7AC50-A93E-4E74-9968-118CE9EE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1EB6A-B6E0-444E-9115-BC017DC0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3A52C-74DA-4387-965F-D366BC08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4634B-CE37-48E6-929E-B916F728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5C59-25F6-4101-8969-DDE39A47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F4F2D-1FB0-4E7B-B73B-687E62D3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357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e51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4753-38F3-4E21-B28C-87184EED04C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9D42-B3AE-4422-933D-8FE71055C543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357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e51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AF7F-B551-4A01-A4D1-6B7E594B4318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97CF-A05E-4290-87B8-8B7EE7EDAA9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audio" Target="../media/push.wav"/><Relationship Id="rId3" Type="http://schemas.openxmlformats.org/officeDocument/2006/relationships/audio" Target="../media/coin.wav"/><Relationship Id="rId4" Type="http://schemas.openxmlformats.org/officeDocument/2006/relationships/audio" Target="../media/click.wav"/><Relationship Id="rId5" Type="http://schemas.openxmlformats.org/officeDocument/2006/relationships/audio" Target="../media/cashreg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audio" Target="../media/arrow.wav"/><Relationship Id="rId4" Type="http://schemas.openxmlformats.org/officeDocument/2006/relationships/audio" Target="../media/coin.wav"/><Relationship Id="rId5" Type="http://schemas.openxmlformats.org/officeDocument/2006/relationships/audio" Target="../media/drumroll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hammer.wav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breeze.wav"/><Relationship Id="rId3" Type="http://schemas.openxmlformats.org/officeDocument/2006/relationships/audio" Target="../media/coin.wav"/><Relationship Id="rId4" Type="http://schemas.openxmlformats.org/officeDocument/2006/relationships/audio" Target="../media/whoosh.wav"/><Relationship Id="rId5" Type="http://schemas.openxmlformats.org/officeDocument/2006/relationships/audio" Target="../media/voltage.wav"/><Relationship Id="rId6" Type="http://schemas.openxmlformats.org/officeDocument/2006/relationships/audio" Target="../media/wind.wav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voltag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whoosh.wav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unità Parrocchiale di Carpino: San Nicola di Mira – San Cirillo d’Alessandria</a:t>
            </a: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INERARIO DI FIDANZATI IN PREPARAZIONE AL SACRAMENTO DEL MATRIMO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ALL’INNAMORAMEN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LL’AM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raziano Di Perna:                                 Itinerario per fidanz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D465-3BD5-45E5-9881-6B1F4763E0E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BABEF07-33F2-4254-903E-14A58E0F9828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ff"/>
                                </p:to>
                              </p:animClr>
                              <p:animClr clrSpc="rgb">
                                <p:cBhvr>
                                  <p:cTn id="33" dur="1" fill="hold"/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33000" y="332280"/>
            <a:ext cx="46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PER CONOSCERE L’INTERCULTOR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8520" y="906480"/>
            <a:ext cx="88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biettivo: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verificare che la coppia sia formata come l’immagine di Dio e 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ia in rapporto alla vita di coppia e di famig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1280" y="1842480"/>
            <a:ext cx="849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hiedere il matrimonio in Chiesa vuol dire accettare che Dio sia vost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tercultore in un momento decisivo della vostra vi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omandatevi ora se Dio merita davvero uno spazio importante ne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vita di copp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34720" y="3427920"/>
            <a:ext cx="69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La risposta sta nell’analisi dell’esperienza che state vivendo.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2240" y="4075200"/>
            <a:ext cx="49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coprendo il dono dell’amore dentro di vo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teso com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3800" y="4651200"/>
            <a:ext cx="197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Ess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erso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urata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raziano Di Perna:    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E7B49-8B7E-414E-95B3-367B39C2D6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D47E4B-7A1D-422E-9F17-7C5779FF92C2}" type="datetime1">
              <a:rPr lang="en-US"/>
              <a:t>07/30/26</a:t>
            </a:fld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73760" y="40356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ella coppia 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8520" y="1195920"/>
            <a:ext cx="75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iete consapevoli che, anche se è in voi, non l’avete inventato vo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55560" y="191520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E’ sicuramente qualcosa che supera voi stessi.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47640" y="2781360"/>
          <a:ext cx="5943600" cy="155088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Nei momenti di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estasi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della coppia che danno un senso di pienezza e che fanno vedere la felicità dentro di noi, si arriva ad intuire che c’è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 Narrow"/>
                          <a:ea typeface="Times New Roman"/>
                        </a:rPr>
                        <a:t>Dio nell’amore che vi unis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140360" y="4581360"/>
            <a:ext cx="792000" cy="719280"/>
          </a:xfrm>
          <a:prstGeom prst="downArrow">
            <a:avLst>
              <a:gd name="adj1" fmla="val 44685"/>
              <a:gd name="adj2" fmla="val 362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419640" y="5373720"/>
          <a:ext cx="2620800" cy="820800"/>
        </p:xfrm>
        <a:graphic>
          <a:graphicData uri="http://schemas.openxmlformats.org/drawingml/2006/table">
            <a:tbl>
              <a:tblPr/>
              <a:tblGrid>
                <a:gridCol w="2620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 Narrow"/>
                          <a:ea typeface="Times New Roman"/>
                        </a:rPr>
                        <a:t>Nell’altro è Dio che vi am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raziano Di Perna:    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C895F-8BC3-467D-A3EB-BAEEEE14F96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6CF745-726C-4CE3-8D2F-A99CF60B7C37}" type="datetime1">
              <a:rPr lang="en-US"/>
              <a:t>07/30/26</a:t>
            </a:fld>
          </a:p>
        </p:txBody>
      </p:sp>
    </p:spTree>
  </p:cSld>
  <p:transition>
    <p:randomBa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1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58040" y="332280"/>
            <a:ext cx="69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Dio si manifesta proprio nell’amore di un uomo e una donna.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2160" y="1411920"/>
            <a:ext cx="47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145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Cos’è fede di fronte a questo Dio?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0" y="2708280"/>
            <a:ext cx="609480" cy="146160"/>
          </a:xfrm>
          <a:prstGeom prst="rightArrow">
            <a:avLst>
              <a:gd name="adj1" fmla="val 50000"/>
              <a:gd name="adj2" fmla="val 1042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48320" y="256428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redere che esiste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21040" y="2491200"/>
            <a:ext cx="28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ntirsi sicuri [</a:t>
            </a: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al riparo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]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00000" y="3429000"/>
          <a:ext cx="7417080" cy="80028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Sono contento che tu sia il Dio della mia vita: te la affido!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906840" y="4777920"/>
            <a:ext cx="53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Accettarlo e mettersi in relazione con 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Lui.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raziano Di Perna:    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7AB4C-0C6F-4AC4-A8AD-FAD733BA4D1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1B9A1E-D5B0-476B-A8AD-926070E24DBB}" type="datetime1">
              <a:rPr lang="en-US"/>
              <a:t>07/30/26</a:t>
            </a:fld>
          </a:p>
        </p:txBody>
      </p:sp>
    </p:spTree>
  </p:cSld>
  <p:transition>
    <p:checke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cc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cc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cc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cc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cc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cc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8" dur="1" fill="hold"/>
                                  <p:tgtEl>
                                    <p:spTgt spid="1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cc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19600" y="259200"/>
            <a:ext cx="52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145000"/>
              <a:buFont typeface="Arial Narrow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Come ci si mette in relazione con Dio?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80" y="763920"/>
            <a:ext cx="88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bbiamo la tendenza ad “usarLo” per proteggerci e realizzare i nostri progett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11280" y="1341360"/>
          <a:ext cx="7561080" cy="820800"/>
        </p:xfrm>
        <a:graphic>
          <a:graphicData uri="http://schemas.openxmlformats.org/drawingml/2006/table">
            <a:tbl>
              <a:tblPr/>
              <a:tblGrid>
                <a:gridCol w="7561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Bisogna, come in una coppia, porsi l’uno di fronte all’altro, non imponendo un progetto, ma mettendosi in ascolt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 rot="1465800">
            <a:off x="3924000" y="2204640"/>
            <a:ext cx="1008000" cy="6858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6207" y="8796"/>
                </a:moveTo>
                <a:arcTo wR="-5011" hR="-5011" stAng="-9385655" swAng="-9843539"/>
                <a:lnTo>
                  <a:pt x="2468" y="3928"/>
                </a:lnTo>
                <a:arcTo wR="10800" hR="10800" stAng="-8429194" swAng="9843539"/>
                <a:lnTo>
                  <a:pt x="23173" y="16199"/>
                </a:lnTo>
                <a:lnTo>
                  <a:pt x="15809" y="19089"/>
                </a:lnTo>
                <a:lnTo>
                  <a:pt x="12918" y="117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2400" y="2996280"/>
            <a:ext cx="72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ignore,… noi abbiamo un progetto ….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ma tu cosa vuoi da noi?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6120" y="3499200"/>
            <a:ext cx="68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io non è una verità di cui convincersi dell’esistenza …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00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a una persona da accogliere nella nostra vita con la consapevolez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he non la lascerà come la trova.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0400" y="4777200"/>
            <a:ext cx="850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Quando voi coppia, insieme, riuscite a mettervi di fronte a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ui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in povertà 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hiedere di capire  che cosa vuole da voi, allora siete certi che LUI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…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vi sta parlando.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raziano Di Perna:    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D3C55-DEC8-41A4-B3BC-945DFD507F9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67D0E9-13D3-41E3-8E4D-7DDECC1DF1B8}" type="datetime1">
              <a:rPr lang="en-US"/>
              <a:t>07/30/26</a:t>
            </a:fld>
          </a:p>
        </p:txBody>
      </p:sp>
    </p:spTree>
  </p:cSld>
  <p:transition>
    <p:cover dir="lu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95480" y="331920"/>
            <a:ext cx="566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L’Onnipotenza di Dio è l’Onnipotenza dell’amor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è l’amore che è Onnipotente!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6680" y="213264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Dio può tutto?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3720" y="3067560"/>
            <a:ext cx="56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o!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          Dio può soltanto ciò c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l’amore può!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4508640"/>
            <a:ext cx="299880" cy="1512720"/>
          </a:xfrm>
          <a:custGeom>
            <a:avLst/>
            <a:gdLst>
              <a:gd name="textAreaLeft" fmla="*/ 0 w 299880"/>
              <a:gd name="textAreaRight" fmla="*/ 108360 w 2998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8440" y="4364640"/>
            <a:ext cx="40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n Onnipotente che ci amerebb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2120" y="5515560"/>
            <a:ext cx="30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n amore Onnipoten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95600" y="501228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ifferenza !!!!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raziano Di Perna:    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9C2C2-E64A-4FB9-8F78-3EBE9F9F319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E1802F-DFA4-4B17-9768-E11170D43313}" type="datetime1">
              <a:rPr lang="en-US"/>
              <a:t>07/30/26</a:t>
            </a:fld>
          </a:p>
        </p:txBody>
      </p:sp>
    </p:spTree>
  </p:cSld>
  <p:transition>
    <p:cover dir="l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2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2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7" dur="1" fill="hold"/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132000" y="2492280"/>
            <a:ext cx="255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F I N 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raziano Di Perna:    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55237-40D0-4D7F-B688-593825E1F27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56384F-7FA0-4339-947F-9A034309436D}" type="datetime1">
              <a:rPr lang="en-US"/>
              <a:t>07/30/26</a:t>
            </a:fld>
          </a:p>
        </p:txBody>
      </p:sp>
    </p:spTree>
  </p:cSld>
  <p:transition>
    <p:wheel spokes="8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43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6" dur="1" fill="hold"/>
                                  <p:tgtEl>
                                    <p:spTgt spid="1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4:24:00Z</dcterms:created>
  <dc:creator>Di Perna</dc:creator>
  <dc:description/>
  <dc:language>en-US</dc:language>
  <cp:lastModifiedBy>Di Perna</cp:lastModifiedBy>
  <dcterms:modified xsi:type="dcterms:W3CDTF">2006-11-02T17:13:21Z</dcterms:modified>
  <cp:revision>4</cp:revision>
  <dc:subject/>
  <dc:title>Comunità Parrocchiale di Carpino: San Nicola di Mira – San Cirillo d’Alessandria  ITINERARIO DI FIDANZATI IN PREPARAZIONE AL SACRAMENTO DEL MATRIMONIO</dc:title>
</cp:coreProperties>
</file>