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breeze.wav" ContentType="audio/x-wav"/>
  <Override PartName="/ppt/media/coin.wav" ContentType="audio/x-wav"/>
  <Override PartName="/ppt/media/voltage.wav" ContentType="audio/x-wav"/>
  <Override PartName="/ppt/media/chimes.wav" ContentType="audio/x-wav"/>
  <Override PartName="/ppt/media/click.wav" ContentType="audio/x-wav"/>
  <Override PartName="/ppt/media/camera.wav" ContentType="audio/x-wav"/>
  <Override PartName="/ppt/media/wind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F31-6E4E-4FE0-B544-636419D3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978-4001-410D-AA8B-1470E41D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44A-B4B0-4939-B51F-B7AE630B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FF4-AF4F-42D2-B9E8-3FD1E8A2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6CD-BC5C-4521-A7D4-D2F54B5C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B7A-A3D7-49AB-9410-F0B28F0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BD9-448D-46FB-B6B0-33FA022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297-3DBE-49A4-A0CB-2D934A21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A4E-742F-4E06-A008-7F36285B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51F-4777-4C80-98FE-1007FDE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FDF-B7BE-47D3-922C-04030F0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757-27CF-4DBD-A441-E3C4BFCE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252E-98D1-4A6F-BAB3-28338013EF2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B56-DFDE-4B6D-ABE6-955683002FF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amera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voltage.wav"/><Relationship Id="rId4" Type="http://schemas.openxmlformats.org/officeDocument/2006/relationships/audio" Target="../media/breeze.wav"/><Relationship Id="rId5" Type="http://schemas.openxmlformats.org/officeDocument/2006/relationships/audio" Target="../media/click.wav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laser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43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unità Parrocchiale di Carpino: San Nicola di Mira – San Cirillo d’Alessandria</a:t>
            </a: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INERARIO DI FIDANZATI IN PREPARAZIONE AL SACRAMENTO DEL MATRIMONI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640" y="4365360"/>
            <a:ext cx="338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ONFLIT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B66-5950-407D-9054-8DEBD9DAED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F2FE7-6B0D-4C44-B3AA-1379AB951BB0}" type="datetime1">
              <a:rPr lang="en-US"/>
              <a:t>07/30/26</a:t>
            </a:fld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6880" y="33228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CONFLIT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9064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è realistico pensare che una coppia potrà essere esente da difficoltà di rapport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6080" y="191520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a dei conflitti nella copp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45120" y="184356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venzione per il futu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133720"/>
            <a:ext cx="502920" cy="14436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960" y="2564280"/>
            <a:ext cx="74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ogna trovare il modo di superare gli inevitabili conflit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45480" y="314064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teggiamenti durante il fidanz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5704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noi non succeder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oi non siamo come le altre copp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analizza il probl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eriamo che non ci succ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a speranza senza concreto fond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ssegnars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he prima o poi questo amore - che adesso è così bello – finirà!!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alismo pessimist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3B5-EC73-4361-8F8B-8F726BABE2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D8E6-1ED2-43BE-9E46-F8C45FECCB29}" type="datetime1">
              <a:rPr lang="en-US"/>
              <a:t>07/30/26</a:t>
            </a:fld>
          </a:p>
        </p:txBody>
      </p:sp>
    </p:spTree>
  </p:cSld>
  <p:transition spd="slow">
    <p:wheel spokes="1"/>
    <p:sndAc>
      <p:stSnd>
        <p:snd r:embed="rId1" name="coin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3640" y="4005360"/>
            <a:ext cx="2577960" cy="79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O DI COP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04640"/>
            <a:ext cx="8642160" cy="944640"/>
          </a:xfrm>
          <a:custGeom>
            <a:avLst/>
            <a:gdLst>
              <a:gd name="textAreaLeft" fmla="*/ 111240 w 8642160"/>
              <a:gd name="textAreaRight" fmla="*/ 8530920 w 8642160"/>
              <a:gd name="textAreaTop" fmla="*/ 111240 h 944640"/>
              <a:gd name="textAreaBottom" fmla="*/ 833400 h 944640"/>
            </a:gdLst>
            <a:ahLst/>
            <a:rect l="textAreaLeft" t="textAreaTop" r="textAreaRight" b="textAreaBottom"/>
            <a:pathLst>
              <a:path w="1975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3943" y="21600"/>
                </a:lnTo>
                <a:arcTo wR="3600" hR="3600" stAng="10800000" swAng="5400000"/>
                <a:lnTo>
                  <a:pt x="197543" y="3600"/>
                </a:lnTo>
                <a:arcTo wR="3600" hR="3600" stAng="5400000" swAng="5400000"/>
                <a:close/>
              </a:path>
            </a:pathLst>
          </a:custGeom>
          <a:solidFill>
            <a:srgbClr val="c0c0c0">
              <a:alpha val="23000"/>
            </a:srgbClr>
          </a:solidFill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38120"/>
            <a:ext cx="79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re preparati e impegnarsi al superamento dei problemi c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ono nascere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egno dei partners 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alo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5040" y="1699200"/>
            <a:ext cx="52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HE’ NASCONO I CONFLIT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200" y="2275200"/>
            <a:ext cx="78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due persone hanno deciso di stare insieme è perch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ccettano, si conoscono, sanno cosa aspettarsi da lui o da le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21300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8480" y="5327640"/>
            <a:ext cx="80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o di coppia   = &gt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ndo le aspettative di entrambi s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58C-0B84-482A-808D-671057E78D7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AB72E-4645-47A5-BEAD-FCA0714D721A}" type="datetime1">
              <a:rPr lang="en-US"/>
              <a:t>07/30/26</a:t>
            </a:fld>
          </a:p>
        </p:txBody>
      </p:sp>
    </p:spTree>
  </p:cSld>
  <p:transition spd="slow">
    <p:fade thruBlk="true"/>
    <p:sndAc>
      <p:stSnd>
        <p:snd r:embed="rId1" name="click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8480" y="763920"/>
            <a:ext cx="76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persone con il tempo cambiano e può variare l’equilibri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554120"/>
            <a:ext cx="821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azione personale che porta ad avere impegni ed interessi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gior impegno nel lav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vo di un figlio o di un anziano in c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ferimento o la perdita del lav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n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pau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t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7320" y="494028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partners non si riconoscono pi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iascuno non corrisponde più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ò che l’altro si aspetta e la coppi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de la stabili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ilib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CA0-D5A3-4C19-A165-764D2A74745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96D58-1431-426F-9FA0-36DF05C918E5}" type="datetime1">
              <a:rPr lang="en-US"/>
              <a:t>07/30/26</a:t>
            </a:fld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erde la stabilità ….. e succ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ppia non se ne acc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sso le coppie poco inclini ad analizzarsi 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ppie distrat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n si accorgono che non c’è più intesa ma vanno avanti lo stesso senza farsi troppe domande. Dopo molto temp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 primo probl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scoprirann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tani ed estrane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90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coppia se ne acc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 dei due apre gli occhi 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vede accanto a se la persona con cui ha scelto di viv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7875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SzPct val="14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ttu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ivorzio o stare insieme per scelta di comodo o di facciata. E’ una strada veloce perché da l’impressione di risolvere il problema senza voler ripar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1559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SzPct val="140000"/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itare con il senti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i cerca di sopire le                divergenze con slanci di affettività nell’illusione di ricomporre l’intesa ma si hanno momenti tristi e liet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C26-57A7-4FDD-B94D-30231E10C4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E8003-06AE-4EF5-9E3D-E639D7BC3A03}" type="datetime1">
              <a:rPr lang="en-US"/>
              <a:t>07/30/26</a:t>
            </a:fld>
          </a:p>
        </p:txBody>
      </p:sp>
    </p:spTree>
  </p:cSld>
  <p:transition spd="slow">
    <p:randomBar dir="horz"/>
    <p:sndAc>
      <p:stSnd>
        <p:snd r:embed="rId1" name="click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258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SzPct val="140000"/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ialo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er conoscere di nuovo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-conoscer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leggere la coppia alla luce della nuova esperienza ed accettarsi di nuovo fino a ritrovare un nuovo equilibrio di copp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700280"/>
            <a:ext cx="860400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698840"/>
            <a:ext cx="860400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 vere rotture compaiono quasi sempre nelle coppie che non si sono confrontate ver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1400" y="278028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’assenza di conflitti può significare l’indifferenz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500280"/>
            <a:ext cx="8748720" cy="2665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ò accadere che dopo un litigio, franco e leale, in cui ognuno dei due è riuscito ad esprimere in fondo le sue aspettative, l’uno o l’altro lasci cadere il proprio punto di vista quando ci si accorge che dispiace al partn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BF5-E26A-4544-A252-DB17867E0BB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BAA98-A69D-4C5C-8D21-B77A654BAFFE}" type="datetime1">
              <a:rPr lang="en-US"/>
              <a:t>07/30/26</a:t>
            </a:fld>
          </a:p>
        </p:txBody>
      </p:sp>
    </p:spTree>
  </p:cSld>
  <p:transition spd="slow">
    <p:wheel spokes="1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773360"/>
            <a:ext cx="8642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900" spc="-1" strike="noStrike">
                <a:solidFill>
                  <a:srgbClr val="000000"/>
                </a:solidFill>
                <a:latin typeface="Times New Roman"/>
              </a:rPr>
              <a:t>F I N E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                           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B2E-A53A-48EE-B915-6C6FCC345B8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41166-F885-4488-9824-BA1EE93C037A}" type="datetime1">
              <a:rPr lang="en-US"/>
              <a:t>07/30/26</a:t>
            </a:fld>
          </a:p>
        </p:txBody>
      </p:sp>
    </p:spTree>
  </p:cSld>
  <p:transition spd="slow">
    <p:fade thruBlk="true"/>
    <p:sndAc>
      <p:stSnd>
        <p:snd r:embed="rId1" name="click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7:24:25Z</dcterms:created>
  <dc:creator>Di Perna</dc:creator>
  <dc:description/>
  <dc:language>en-US</dc:language>
  <cp:lastModifiedBy> </cp:lastModifiedBy>
  <dcterms:modified xsi:type="dcterms:W3CDTF">2006-12-01T13:50:00Z</dcterms:modified>
  <cp:revision>3</cp:revision>
  <dc:subject/>
  <dc:title>Comunità Parrocchiale di Carpino: San Nicola di Mira – San Cirillo d’Alessandria  ITINERARIO DI FIDANZATI IN PREPARAZIONE AL SACRAMENTO DEL MATRIMONIO</dc:title>
</cp:coreProperties>
</file>