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165-C067-4BB3-88C0-5F0BD6DD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42F-0A30-4CCB-9CDD-3F726F3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934-744C-49D2-B8D4-4BC88611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737-0667-486A-9C49-17B51CFF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A7AE-CA62-4258-8A4F-2910FC1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1C2-659C-4AF4-955F-DCCAEE61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69E-5F85-4794-A5AC-2BBB5D34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7A3-3846-4DD2-986D-D145ED0F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20DB-225F-4545-97B4-BB4DAEA7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B25C-090E-4316-BFDD-F26EA7C6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7F5B-6385-4AB3-9148-801AD92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35B-2AA4-4A67-8A8E-1C600578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24A9-258F-4CA0-B900-F77B549A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6156-8263-4A3B-B3FA-B89E7089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490C-5E0D-41B3-81A2-7B49D9AC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272D-521E-4D9E-8257-8A231599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DB54-683C-4D18-87C4-9290D423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A68-B111-4E0C-890A-2681B6BE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DFC-4B66-467E-9F02-CD9A6024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861-5BD2-475E-B9C2-90AE760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847-9DAA-4EB0-9870-69590713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249-3F22-4B49-9A41-05D9C01A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8BF-D370-464F-8FE0-C62201B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C13-7102-41ED-B294-9BF9A6B4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C512-11DB-4AE5-BE02-D42590F3AB0B}" type="datetime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135E-0D7D-4A79-B09A-36A35051F048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5160-EC29-4931-9351-FC8E9FDADA9C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C4F0-F030-4E48-8E92-D0897532890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184720" cy="5763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L PROGETTO DI DIO PER LA COPPIA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66760"/>
            <a:ext cx="82803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Obiettiv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partendo dalla Bibbia, scoprire il progetto di Dio per la coppia, in modo da avere l’opportunità di adottarlo per la propria vita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064960" y="2495520"/>
            <a:ext cx="4205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Qual è l’idea di Dio sull’uomo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Qual è il progetto per la coppia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263880" y="3648240"/>
            <a:ext cx="35154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questo rispondono 2 realtà: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437000"/>
            <a:ext cx="324000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3300"/>
              </a:buClr>
              <a:buFont typeface="Arial Narrow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natura umana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ff3300"/>
              </a:buClr>
              <a:buFont typeface="Arial Narrow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Bibbia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1A5-000B-4FE9-8AAE-BF68E92D19E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799E2-2BA7-40C9-8FDD-511D9444B9E7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2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2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892760" cy="561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5520" y="1116000"/>
            <a:ext cx="8291520" cy="4626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 formano alla vita cristiana ed apostolica con la parola e con l’esemp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 aiutano con prudenza nella scelta della loro vocazione e favoriscono con ogni diligenza la vocazione sacra eventualmente in essi scoper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postolato coniuga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nifestare e comprovare con l’esempio della propria vita l’indissolubilità e la santità del vincolo matrimonia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Diritto – dover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ducare cristianamente la prole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ifendere la dignità e la legittimità e autonomia della famigli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686-03A9-4FBD-8938-210C767E2A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C913D-33FA-4EDA-B359-EB1013E54916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824360" cy="47628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3720"/>
            <a:ext cx="8229600" cy="4929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dempirà a tale missione se, mediante il mutuo affetto dei membri, si presenta come il santuario domestico della chiesa; se tutta la famiglia si inserisce nel culto liturgico della chiesa; se la famiglia offre una fattiva ospitalità, se promuove la giustizia e le altre opere buone a servizio di tutti i fratelli che si trovano in difficoltà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Opere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dottare bambini abbandonati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cogliere i forestieri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are il contributo alle scuole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ssistere gli adolescenti con il consiglio e con mezzi economici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utare i fidanzati a prepararsi al matrimonio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llaborare alla catechesi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ostenere i coniugi e le famiglie in difficoltà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rovvedere ai vecchi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4A7-90CF-41E0-8A6D-2CA075164F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545D2-2224-45C7-88B8-FCF16B20C0DE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3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3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3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3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95640" y="333360"/>
            <a:ext cx="5108400" cy="561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934920" y="1797120"/>
            <a:ext cx="7272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3300"/>
                </a:solidFill>
                <a:latin typeface="Arial Narrow"/>
              </a:rPr>
              <a:t>F</a:t>
            </a:r>
            <a:r>
              <a:rPr b="1" lang="en-US" sz="20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20800" spc="-1" strike="noStrike">
                <a:solidFill>
                  <a:srgbClr val="ff00ff"/>
                </a:solidFill>
                <a:latin typeface="Arial Narrow"/>
              </a:rPr>
              <a:t>I</a:t>
            </a:r>
            <a:r>
              <a:rPr b="1" lang="en-US" sz="20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20800" spc="-1" strike="noStrike">
                <a:solidFill>
                  <a:srgbClr val="99ff33"/>
                </a:solidFill>
                <a:latin typeface="Arial Narrow"/>
              </a:rPr>
              <a:t>N</a:t>
            </a:r>
            <a:r>
              <a:rPr b="1" lang="en-US" sz="20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20800" spc="-1" strike="noStrike">
                <a:solidFill>
                  <a:srgbClr val="ffff99"/>
                </a:solidFill>
                <a:latin typeface="Arial Narrow"/>
              </a:rPr>
              <a:t>E</a:t>
            </a:r>
            <a:r>
              <a:rPr b="0" lang="en-US" sz="72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7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75E-D74B-4447-9FB4-20852174693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1B2E8-0B5B-47DC-8B0F-5705F40ADC45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autoRev="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43200000">
                                      <p:cBhvr>
                                        <p:cTn id="69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545080" cy="49068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136000" cy="504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l punto di vista fisico l’uomo e la donna sono strutturati in modo da collaborare per generare la vita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l punto di vista spirituale l’unione di un uomo e una donna è espressione profonda di amor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ppia              riproduzione                  determinano e qualificano il nuovo essere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procreazione umana esige qualcosa in più della capacità fisica di generare - qualcosa che sia in sintonia con le caratteristiche tipiche dell’uomo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continuità di una coppia che genera - per garantire al nascituro un’assistenza non solo materiale - ma umana, di affetto e di aiuto. La famiglia appare così un’istituzione essenziale per la vita- anche solo analizzando la ragione umana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068640"/>
            <a:ext cx="621000" cy="225360"/>
          </a:xfrm>
          <a:prstGeom prst="rightArrow">
            <a:avLst>
              <a:gd name="adj1" fmla="val 50000"/>
              <a:gd name="adj2" fmla="val 6889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997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ED9-751C-483A-AC07-C1D02775ED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77486-8E7C-4BA9-B652-8BFF02C266AB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5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943520" cy="47628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91520" cy="4516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Arial Narro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io ha parlato all’uomo attraverso situazioni umane e storich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e persone che si sono sapute mettere in ascolto ed in apertura, hanno saputo leggere nelle loro esperienze di vita la manifestazione di una verità assolu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anno riconosciuto la parola di Dio e l’hanno scritta e tramandata a coloro che sarebbero venuti dop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patrimonio di conoscenze religiose, che caratterizza la religione cristiana, è la Bibbi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lla Bibbia si parla molto di matrimonio: il matrimonio è parte essenziale del progetto di Dio sul mondo ed è una realtà tanto grande da essere scelta come simbolo dell’amore di Dio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EAD-6316-4E10-BDA7-476618F5B0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573FF-9E6C-4283-93C5-C8C0ED045668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5398920" cy="6336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468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Secondo la Bibbia il matrimonio è il capolavoro della creazione [Genesi]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Commento al racconto della creazione della don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coppia umana è frutto di un progetto di D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’uomo e la donna sono fatti l’uno per l’alt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donna è pari all’uomo – è la sua compagna - che cammina al suo fian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coppia è una realtà così profonda da essere come una nuova individualità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sessualità come tale non fa problema prima del pecca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ntico Testamento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La coppia è immagine di Dio [Genesi]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uovo Testamento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Dio è amore [Giovanni] dove c’è amore la c’è D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724280"/>
            <a:ext cx="647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5157720"/>
            <a:ext cx="647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757-6951-4B0E-A68B-06B355C824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CB6B4-AEC4-418E-BE13-A52D2DB4062D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1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4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256360" cy="49068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1196640"/>
            <a:ext cx="8391600" cy="4824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nche il matrimonio è stato intaccato dal peccato che rende l’uomo incapace di amar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I SEGNI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dominio dell’uomo sulla donn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poligam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divorz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legge “mosaica” rendeva difficile il divorzio da una donna perché richiedeva il “ripudio” [atto scritto con motivazioni]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Cantico dei Cantici ed i profeti vedono nell’amore di un uomo e una donna il simbolo dell’amore tra Dio e il suo popolo, Israe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l Cantico si rappresenta una coppia in una situazione ideale – di continuo corteggiamento vicendevole - e secondo sia gli ebrei, che cristiani, nelle vicende di questa coppia si riflettono [in ombra] i rapporti tra Dio e il suo popolo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E5F-B8AC-4ED7-B535-013286308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1C39-19E9-41E8-BC37-4B13D7E4533F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3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3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62160" y="-360"/>
            <a:ext cx="4819680" cy="561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248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 notare la presentazione positiva della sessualità come valore che permette di esprimere visibilmente l’amor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La sessualità come segn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i profeti l’immagine del matrimonio è indicata come rapporto tra Dio e Israele - Dio è lo sposo – Israele è la spos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l matrimonio rappresenta la crisi religiosa tra Dio e Israel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Ose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i sposa con una prostituta per indicare la crisi con l’alleanza tra Dio e Israele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Geremi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– rappresentante e portavoce di Dio – rimane celibe per volere di Dio perché il matrimonio non può simboleggiare la situazione in cui l’alleanza tra Dio e il suo popolo è in crisi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B05-A633-48B8-B9A7-7E3F395148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B51F7-1434-4AD9-9A67-90420C1B72F9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43200000">
                                      <p:cBhvr>
                                        <p:cTn id="3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892760" cy="561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53440" cy="4751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uovo Testament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completa la dottrina dell’Antico Testamento facendoci capire che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isto vuole fare qualcosa di nuovo e migliore anche riguardo al matrimon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L’evangelista Giovann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dopo aver narrato le nozze di Cana, conclude che quello fu il primo segno dei cambiamenti [in meglio] anche relativi al matrimonio - trattandosi di una festa nuzia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na prima novità consiste nel fatto che l’amore coniugale deve ormai misurarsi sull’amore di Cristo che ha dato la vita per no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l matrimonio cristiano è così simbolo dell’unione di Cristo e della Chiesa. L’amore degli sposi simboleggia l’amore di Cristo per la Chiesa e lo rende visibil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l matrimonio è quindi un sacramento e significa l’amore di Dio per noi, l’amore di Cristo per la Chiesa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B7E-B0F8-4E7F-B691-422921D5C4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04762-A020-40ED-837D-EE069B442EFC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mph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99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0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5397840" cy="561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640" y="1089000"/>
            <a:ext cx="8280720" cy="4680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 questa luce si capisce anche come Cristo abbia abolito il divorzio, dovuto alla durezza del cuore dell’uomo, ma contrario all’ideale primitivo dell’indissolubilità voluta da D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prospettiva cristiana vede nel matrimonio una realtà sacra voluta da Dio e perciò non manipolabile a piacimento, ma da capire alla luce della parola di D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matrimonio cristiano è anche sacro, in quanto sacramento, e quindi segno - Indica l’amore di Dio per gli uomini e l’amore di Cristo per la Chies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li sposi cristiani hanno perciò il compito [onore e onere] di rendere visibile nel mondo l’amore di D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vono tenere presente che è sempre in agguato la durezza del cuore che può rovinare il meraviglioso progetto di Dio sulla coppia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140-3307-4DAC-8D7A-C1B9134968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A4157-6C81-4580-9FEC-C6F24D7BB6B1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autoRev="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5035680" cy="56196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L PROGETTO DI DIO PER LA COP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4424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vono quindi premunirsi contro questo pericolo con la riflessione, la prudenza nel comportamento e con la preghie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postolato Famili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 creatore ha costituito la società coniugale quale principio e fondamento della società umana [sacramento]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’apostolato dei coniugi e delle famiglie acquista una singolare importanza sia per la Chiesa sia per la società civi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 coniugi cristiani sono cooperatori della grazia e testimoni della fede reciprocamente e nei confronti dei figli e degli altri familiar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 i figli sono i primi araldi della fede ed educatori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68D-4EB3-437F-B695-BF344DE52D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85FDD-6059-4427-9E2A-AED485508202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6:50:04Z</dcterms:created>
  <dc:creator>Di Perna</dc:creator>
  <dc:description/>
  <dc:language>en-US</dc:language>
  <cp:lastModifiedBy>Di Perna</cp:lastModifiedBy>
  <dcterms:modified xsi:type="dcterms:W3CDTF">2006-11-10T16:56:56Z</dcterms:modified>
  <cp:revision>10</cp:revision>
  <dc:subject/>
  <dc:title>IL PROGETTO DI DIO PER LA COPPIA </dc:title>
</cp:coreProperties>
</file>